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0700-B8A3-48CC-A9AA-7AEE68D0F39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55FA-5A45-417E-857E-BE515D21C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FE88-FAFA-41F0-8D8F-EA4C439991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048A-5EEB-4108-8CBE-CFE909B7B7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ECDD-0C1E-40BE-9AA0-3215CD5653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C5CB-F869-4544-8572-B5AFCB06A5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E220-46F2-4A9A-AB2F-B304F0CD41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4D03-A522-4435-8C21-088514BC5F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FFA-60EC-4AA9-8E36-261EBA6F00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4C0A-1F95-402C-A981-C48354B13A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0751-14B0-4BF8-B5E3-DC487B35C8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EF13-13D9-414C-8AA0-0B8D66C3E4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6D90-EED0-4A58-A095-79B93F817A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BDB20-7E59-4237-9AE6-8425E91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F4AB-0595-45E7-B6DB-1F48C5DA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D7AD-84A2-49B5-87CB-956C73A8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D89DC-2D4E-483E-99D8-DE0C26B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1DE0-7774-44E0-A02D-262EB44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CD03-C221-48F8-A27F-44F4BBC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688B9-58BA-466A-96EC-A6BF8494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F411-2D8A-47ED-8D73-CFD22A75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33CA-C9FA-42C3-A519-172AE3F4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F5E9-F726-46E3-85D7-9695D1AD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A87A-AFD6-4A24-A2C5-0437C2C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82429-BD3C-40C8-9637-D1C9D4B9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4DA7-B3BA-41FE-BC0B-100E3525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EF8AE-5B7E-4EFB-96E1-16156542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53A8E-4B28-4DB2-ADE3-2F3BDAEE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9DBB0-E53A-45DA-BB4E-8382686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4E93-BDA5-4AB4-A434-89A4AB9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99D6-FC80-4BAB-A111-58C5F34E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8105-A964-45A1-AA7B-2A97FD7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9015B-8C04-4E4F-B9A8-ADC5C2BF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D9870-C402-4493-BA96-6ABBD3FD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6E46-F15D-4172-81A7-F4B9E4E3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EF71F-525F-477D-B0FA-CA57CED1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63F3-2BA9-413D-B3AD-EE56528A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0B06A-0FEC-4C6F-9108-8EAE922A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A658B-E31A-46DE-8108-AD95DEE9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6F605-E380-43AB-A7C7-1AD00329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E7A5A-5BA5-4844-935C-F73DD1F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7AD6-FB93-4612-B3E8-F83915E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CA35-F45E-43C8-91D5-030CF30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2B738-81E4-46C4-A02F-CB9D752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A3D09-1114-4B06-99D3-952655BD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F902-B7F2-4C1D-9996-3B1AC1A3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6F92-322F-43E0-A7E7-9A2D0D3C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45391-2638-4515-A53A-DD9B1E43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8144-2B77-453F-8AFC-1A95599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3C249-8CFF-4457-A9F3-556D457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3EC90-A228-4843-ABA7-A08F49F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EFD97-E719-496D-B1C8-D3A2823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D152-60E5-4D78-8356-51C7036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37EF3-BB28-4A1B-BC41-960431A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1A031-5745-4667-B849-0E0553D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08037-DAD6-4CF4-96F5-A745B74B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4B73-0A08-4BC2-A15D-2710AC7B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27FCB-0755-40F6-8F28-3B8A0609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48B-FE87-4BDB-82F3-65C17967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A16-BBEB-4045-B697-2C9410A7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E3D-1F0E-45B6-B51F-72368D33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8AF-7C2B-465F-A0A5-7C8698A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CC1-A44C-48E2-8BD7-8978804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E20-45FE-4D35-9759-E66642E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827-D80F-4399-9107-3CC8327E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3FB-A8D7-4D49-8076-6FB0947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07B-2522-45A0-8940-82C0ABF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2AC-990E-4ADB-8F45-FA68EB2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C80-F446-4D6B-8682-2643C09B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13C-81BE-4C6C-A494-95D9F8E2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769C-71DF-487C-9373-0777E3D5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C2D-7FC7-4144-90C0-8B1AB02F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A876-E53C-4D07-97BE-1002D697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DB68-F6A5-45A3-8664-C80F519D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2EF8-7573-4BEE-AFB4-F52218C6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DB4-478B-4DD0-BF54-750EE31D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97DD-E290-45BF-8256-9C907E0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E9F1-22F3-44BE-9332-710DA80C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195D-B761-4DEB-A58B-BB07AC4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8BEE-8778-4ADD-B053-DC6A235E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C6FA-CB9A-4209-AD46-7BBE42A2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1A8F-6B25-435D-96DB-CD9A5AF1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91050-1C4E-4289-88FE-E7DDBFEA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1B0C-F415-4686-B128-B6AB3793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91B3-238D-4745-AC85-8DF9C46F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B023-CEDE-4007-A318-7F1818C1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9307-AE4D-4CCC-9D35-336B022D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71F0-C9B3-48A2-96CC-C6AA542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F80E-5E6D-4342-B0F2-B076D4E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B77A-BA5A-44DF-861B-057E45DC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65DD-806C-4318-89EF-FD850C0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1C79-A14B-4D33-B3DC-FF36C9A8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DAA5-5088-4E5A-8BD5-804C3FFF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7EDB-1305-433B-B3E8-4E7F4116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D5587-EA62-4462-9750-9EEFCC9E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DEB8-1FCD-434F-9489-D93F437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1CAB-E829-4E10-A0C9-8C7DDCF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8FD0C-A65A-45A6-B9FF-A7A513C4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3A49-7681-4469-BB3B-3A96107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8C5F-7566-44B3-A8EF-FEBFAB87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0E76-0BFE-4417-AB8D-E610A35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19D7-28EA-4331-93D6-A70F7D9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0D13-CB17-4493-A6FA-325231D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058A-9D66-42B7-A9D0-06A1B016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5112-0008-4768-8F3B-74C010F8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706C-0A40-4CD3-A8D6-B684A80B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D4F15-1306-4BCE-AED4-1816AED8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4445-3265-4F40-9522-E72F6F2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CC6FC-6449-42CC-B006-A1801C0D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E539-0144-40A9-A1F8-29E3337A110A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033A-0324-47C0-8626-CF2C40F83393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F250-3465-492C-A5CC-6CD1D8E688F8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3240" y="6488280"/>
            <a:ext cx="9140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obust intellectual property rights delivered effici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19F9-1471-43F4-96C1-70BC636A4A5B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1A2-24A7-4014-99C2-7F6E1A89CE4B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E161-ACCF-4EC5-BFEA-441553C0E67E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9027-0C83-4415-ACE9-100D7313EDD6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A44-9FA9-4B8B-8BCE-753624D11571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LXswfmGNQU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10920" y="3287880"/>
            <a:ext cx="77058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ctor Portell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eral Manager, Patent and Plant Breeders Rights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1638000"/>
            <a:ext cx="87850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Regional Patent Examination Training (RP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4000" y="169992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T security is critical to success of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flexible/mobile access for participants hasn’t worked in all 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re flexible access since Oct 2013 especially for online collaboration and virtual classrooms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esson learned:  Vital role of local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role not sufficiently defined before commence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greater involvement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visit by local supervisors to IP Australia early in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larified requirements and time commitments for supervis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kicked off Community of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RPET Vide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4000" y="1699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979640" y="310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DLXswfmGNQU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058920" y="2565000"/>
            <a:ext cx="532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58920" y="1916280"/>
            <a:ext cx="5329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0920" y="1916280"/>
            <a:ext cx="8064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Introduction to the RPE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What is Competency Based Trai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RPET Program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xperience of RPET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at is the RPET program?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440" y="2349000"/>
            <a:ext cx="8064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 depth training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Focusing on PCT search and examin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Uses e-learning content and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Aims to build patent examination capabilitie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Improving competency of examin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mbedding learning into the workp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Encouraging alignment with international standards and facilitates sharing on domestic best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1"/>
          <p:cNvSpPr/>
          <p:nvPr/>
        </p:nvSpPr>
        <p:spPr>
          <a:xfrm>
            <a:off x="685800" y="177336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f81bd"/>
                </a:solidFill>
                <a:latin typeface="Arial"/>
              </a:rPr>
              <a:t>Distance learning capability for patent examination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Why develop RP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9640" y="2565360"/>
            <a:ext cx="8064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able more in depth and comprehensive training when compared with other training models (short visit bas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Enhance patent examination capability in member off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Contribute to greater confidence in the righ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595959"/>
                </a:solidFill>
                <a:latin typeface="Arial"/>
                <a:ea typeface="Arial"/>
              </a:rPr>
              <a:t>Increased business confidence in the international IP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rpet intro.png"/>
          <p:cNvPicPr/>
          <p:nvPr/>
        </p:nvPicPr>
        <p:blipFill>
          <a:blip r:embed="rId1"/>
          <a:stretch/>
        </p:blipFill>
        <p:spPr>
          <a:xfrm>
            <a:off x="1560600" y="1484280"/>
            <a:ext cx="5327640" cy="23544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4000" y="4054320"/>
            <a:ext cx="8064360" cy="23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Pilot launched 8 April 2013 :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- six participants from ASEAN offices (Malaysia, Indonesia, Philippines)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- two participants from Africa (ARIPO and Keny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Partnership by ASEAN and IP Australia with support from WI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Arial"/>
                <a:ea typeface="Arial"/>
              </a:rPr>
              <a:t>Second intake in 2014 with 15 trainees – expanded to include participants from Thailand and Viet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About the RPET progr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72840" y="256536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Intensive training and one-on-one support to train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mostly conducted online, using e-learning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until trainee achieves competency (up to two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Strikes a balance between classroom and “on the job”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Local supervisor for each trainee works closely with IP Australia’s trainers to monitor and assess trainee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akes a competency based approach to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3200" y="184464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Competency Based Train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55280" y="2421000"/>
            <a:ext cx="8064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Ability to perform a workplace task or function to the standard required in the workpl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rainees must demonstra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the knowledge, skills and attributes required to perform a task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apply them consistently over time and in the required workplace situations and environ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73200" y="1412640"/>
            <a:ext cx="8075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Program Structure</a:t>
            </a:r>
            <a:br>
              <a:rPr sz="2500"/>
            </a:b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- RPET takes a phased approa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0360" cy="13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517680" y="3933720"/>
          <a:ext cx="8231040" cy="201132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1954080"/>
                <a:gridCol w="216072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ced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 Week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olidating learning  on the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onstrating competence under minimal super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4000" y="1125360"/>
            <a:ext cx="8073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595959"/>
                </a:solidFill>
                <a:latin typeface="Arial"/>
                <a:ea typeface="Arial"/>
              </a:rPr>
              <a:t>Experience so far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4000" y="1915920"/>
            <a:ext cx="8064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ositive feedback on quality of trainers and online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Competency-based training not widely used or underst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Program required more time commitment and time required than anticip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95959"/>
                </a:solidFill>
                <a:latin typeface="Arial"/>
                <a:ea typeface="Arial"/>
              </a:rPr>
              <a:t>Highlighted differences between national practices and international standards, e.g. treatment of dependent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4:02:12Z</dcterms:created>
  <dc:creator>Vanessa Courtot</dc:creator>
  <dc:description/>
  <dc:language>en-US</dc:language>
  <cp:lastModifiedBy>Keith Porter</cp:lastModifiedBy>
  <dcterms:modified xsi:type="dcterms:W3CDTF">2014-06-02T23:32:27Z</dcterms:modified>
  <cp:revision>66</cp:revision>
  <dc:subject/>
  <dc:title>Heading</dc:title>
</cp:coreProperties>
</file>