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E8DC-D9D3-440F-A3F2-68BE523519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41C6-8E18-4DC4-A531-5976FEE16656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78C9-7CA0-469C-AC97-D8A191A1B25C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89B3-A2AA-4C3F-8C9E-D5066CD0D8ED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3BAB-58BE-4853-A03F-E0FC1B48D6D0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6CDC-E180-48AC-A143-483AB5E21740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3C32-B435-4D3F-AF39-6B550D33608E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Arial"/>
              <a:ea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0A48-6947-44F7-B2F0-3F0CFD56C8BC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595959"/>
              </a:solidFill>
              <a:latin typeface="Arial"/>
              <a:ea typeface="Arial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7D0C-0368-45AA-B782-3CF51927F151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730A-3AA6-4D56-AB76-0D9378800EEB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18C9-901D-4FAC-98E1-DFC1443C1607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6ECA-D3F4-426A-AE15-D95A89DF21A5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505C-DDDF-4BEE-85BE-F489CD74ADD7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ECA6-6703-46E5-80F2-D6AA58172492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itle 1"/>
          <p:cNvSpPr/>
          <p:nvPr/>
        </p:nvSpPr>
        <p:spPr>
          <a:xfrm>
            <a:off x="1062000" y="1587600"/>
            <a:ext cx="16747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ontact 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ubtitle 2"/>
          <p:cNvSpPr/>
          <p:nvPr/>
        </p:nvSpPr>
        <p:spPr>
          <a:xfrm>
            <a:off x="2747880" y="3089160"/>
            <a:ext cx="46846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ffffff"/>
                </a:solidFill>
                <a:latin typeface="Calibri"/>
              </a:rPr>
              <a:t>facebook.com/ipaustralia.gov.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ffffff"/>
                </a:solidFill>
                <a:latin typeface="Calibri"/>
              </a:rPr>
              <a:t>twitter.com/IPAustral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ffffff"/>
                </a:solidFill>
                <a:latin typeface="Calibri"/>
              </a:rPr>
              <a:t>linkedin.com/company/ip-austral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ffffff"/>
                </a:solidFill>
                <a:latin typeface="Calibri"/>
              </a:rPr>
              <a:t>youtube.com/user/ipaustral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13" descr="Facebook-symbol.png"/>
          <p:cNvPicPr/>
          <p:nvPr/>
        </p:nvPicPr>
        <p:blipFill>
          <a:blip r:embed="rId3"/>
          <a:stretch/>
        </p:blipFill>
        <p:spPr>
          <a:xfrm>
            <a:off x="2471760" y="3043080"/>
            <a:ext cx="325440" cy="303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LinkedIn-symbol.png"/>
          <p:cNvPicPr/>
          <p:nvPr/>
        </p:nvPicPr>
        <p:blipFill>
          <a:blip r:embed="rId4"/>
          <a:stretch/>
        </p:blipFill>
        <p:spPr>
          <a:xfrm>
            <a:off x="2463840" y="3630600"/>
            <a:ext cx="355680" cy="303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" descr="Twitter-symbol.png"/>
          <p:cNvPicPr/>
          <p:nvPr/>
        </p:nvPicPr>
        <p:blipFill>
          <a:blip r:embed="rId5"/>
          <a:stretch/>
        </p:blipFill>
        <p:spPr>
          <a:xfrm>
            <a:off x="2451240" y="3325680"/>
            <a:ext cx="366480" cy="304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YouTube-symbol.png"/>
          <p:cNvPicPr/>
          <p:nvPr/>
        </p:nvPicPr>
        <p:blipFill>
          <a:blip r:embed="rId6"/>
          <a:stretch/>
        </p:blipFill>
        <p:spPr>
          <a:xfrm>
            <a:off x="2475000" y="3916440"/>
            <a:ext cx="318960" cy="304560"/>
          </a:xfrm>
          <a:prstGeom prst="rect">
            <a:avLst/>
          </a:prstGeom>
          <a:ln w="0">
            <a:noFill/>
          </a:ln>
        </p:spPr>
      </p:pic>
      <p:sp>
        <p:nvSpPr>
          <p:cNvPr id="192" name="TextBox 19"/>
          <p:cNvSpPr/>
          <p:nvPr/>
        </p:nvSpPr>
        <p:spPr>
          <a:xfrm>
            <a:off x="2451240" y="2143080"/>
            <a:ext cx="336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1300 65 1010 (9am – 5p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www.ipaustralia.gov.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Subtitle 2"/>
          <p:cNvSpPr/>
          <p:nvPr/>
        </p:nvSpPr>
        <p:spPr>
          <a:xfrm>
            <a:off x="460440" y="2468520"/>
            <a:ext cx="678636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ick to edit master subtitle sty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Subtitle 2"/>
          <p:cNvSpPr/>
          <p:nvPr/>
        </p:nvSpPr>
        <p:spPr>
          <a:xfrm>
            <a:off x="633240" y="2602080"/>
            <a:ext cx="6786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Click to edit master subtitle sty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itle 1"/>
          <p:cNvSpPr/>
          <p:nvPr/>
        </p:nvSpPr>
        <p:spPr>
          <a:xfrm>
            <a:off x="633240" y="1677960"/>
            <a:ext cx="67788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Subtitle 2"/>
          <p:cNvSpPr/>
          <p:nvPr/>
        </p:nvSpPr>
        <p:spPr>
          <a:xfrm>
            <a:off x="633240" y="2602080"/>
            <a:ext cx="6786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Click to edit master subtitle sty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633240" y="1677960"/>
            <a:ext cx="67788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74167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ahoma"/>
              </a:rPr>
              <a:t>Regional Patent Examination Training Mentoring 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Tahoma"/>
              </a:rPr>
              <a:t>(RPET Mentoring) Program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532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ahoma"/>
              </a:rPr>
              <a:t>Program Structure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2235240"/>
            <a:ext cx="82296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324000" y="1216080"/>
          <a:ext cx="8640720" cy="496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16080"/>
                    <a:ext cx="864072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0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ahoma"/>
              </a:rPr>
              <a:t>Future Plan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2235240"/>
            <a:ext cx="82296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Stage 1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stage of the program will run until June 2018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liminary (Gap Analysis and develop Work Plan): June - July 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velopment/Implementation (carryout Work Plan): August 2017 – May 201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valuation/Stocktaking: June 201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tage 2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cond stage will depend upon the progress achieved through stage 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 some countries this stage may be dedicated to continuing to develop and implement the Work Pla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 countries that have established a mature training program, this stage may shift to focus on building or strengthening a quality management system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591192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0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2235240"/>
            <a:ext cx="82296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RPET – Looking B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Suc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Challe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RPET Mentoring – Looking for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What is RPET Mentoring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Objectiv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RPET Progra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Future Plan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0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PET – Overview</a:t>
            </a:r>
            <a:br>
              <a:rPr sz="3200"/>
            </a:br>
            <a:r>
              <a:rPr b="1" lang="en-AU" sz="2000" spc="-1" strike="noStrike">
                <a:solidFill>
                  <a:srgbClr val="4f81bd"/>
                </a:solidFill>
                <a:latin typeface="Arial"/>
              </a:rPr>
              <a:t>Distance learning capability for patent examination trai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4" descr="rpet intro.png"/>
          <p:cNvPicPr/>
          <p:nvPr/>
        </p:nvPicPr>
        <p:blipFill>
          <a:blip r:embed="rId1"/>
          <a:stretch/>
        </p:blipFill>
        <p:spPr>
          <a:xfrm>
            <a:off x="1476360" y="1989000"/>
            <a:ext cx="5818320" cy="25718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1"/>
          <p:cNvSpPr/>
          <p:nvPr/>
        </p:nvSpPr>
        <p:spPr>
          <a:xfrm>
            <a:off x="933120" y="4581360"/>
            <a:ext cx="66819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95959"/>
                </a:solidFill>
                <a:latin typeface="Calibri"/>
              </a:rPr>
              <a:t>Pilot launched 8 April 2013 :</a:t>
            </a:r>
            <a:br>
              <a:rPr sz="1800"/>
            </a:br>
            <a:r>
              <a:rPr b="0" lang="en-AU" sz="1800" spc="-1" strike="noStrike">
                <a:solidFill>
                  <a:srgbClr val="595959"/>
                </a:solidFill>
                <a:latin typeface="Calibri"/>
              </a:rPr>
              <a:t>- six participants from ASEAN offices (Malaysia, Indonesia, Philippines)</a:t>
            </a:r>
            <a:br>
              <a:rPr sz="1800"/>
            </a:br>
            <a:r>
              <a:rPr b="0" lang="en-AU" sz="1800" spc="-1" strike="noStrike">
                <a:solidFill>
                  <a:srgbClr val="595959"/>
                </a:solidFill>
                <a:latin typeface="Calibri"/>
              </a:rPr>
              <a:t>- two participants from Africa (ARIPO and Keny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95959"/>
                </a:solidFill>
                <a:latin typeface="Calibri"/>
              </a:rPr>
              <a:t>Partnership by ASEAN and IP Australia with support from WIP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95959"/>
                </a:solidFill>
                <a:latin typeface="Calibri"/>
              </a:rPr>
              <a:t>Later expanded to include the ASEAN offices of Thailand and Vietn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0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rogram Structur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- RPET takes a phased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7621560" cy="138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2" name=""/>
          <p:cNvGraphicFramePr/>
          <p:nvPr/>
        </p:nvGraphicFramePr>
        <p:xfrm>
          <a:off x="517680" y="3933720"/>
          <a:ext cx="8231040" cy="201132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1954080"/>
                <a:gridCol w="2160720"/>
              </a:tblGrid>
              <a:tr h="2011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ey Concep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vanced Concep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 Week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solidating learning  on the j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monstrating competence under minimal super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842920" y="2923920"/>
            <a:ext cx="286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ahoma"/>
              </a:rPr>
              <a:t>Four Intak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4" name="Picture 6" descr=""/>
          <p:cNvPicPr/>
          <p:nvPr/>
        </p:nvPicPr>
        <p:blipFill>
          <a:blip r:embed="rId1"/>
          <a:stretch/>
        </p:blipFill>
        <p:spPr>
          <a:xfrm>
            <a:off x="4954680" y="954000"/>
            <a:ext cx="3430440" cy="22892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523800" y="3773520"/>
            <a:ext cx="3400560" cy="23194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8" descr=""/>
          <p:cNvPicPr/>
          <p:nvPr/>
        </p:nvPicPr>
        <p:blipFill>
          <a:blip r:embed="rId3"/>
          <a:stretch/>
        </p:blipFill>
        <p:spPr>
          <a:xfrm>
            <a:off x="4932360" y="3757680"/>
            <a:ext cx="3240000" cy="2440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G:\International Policy &amp; Cooperation\Patent &amp; Plant Breeders Rights\PCT\PCT Working Group\WG 10 - May 2017\RPET Mentoring Presentation\2012 trainees.jpg"/>
          <p:cNvPicPr/>
          <p:nvPr/>
        </p:nvPicPr>
        <p:blipFill>
          <a:blip r:embed="rId4"/>
          <a:stretch/>
        </p:blipFill>
        <p:spPr>
          <a:xfrm>
            <a:off x="387360" y="907920"/>
            <a:ext cx="3502080" cy="2335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0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ahoma"/>
              </a:rPr>
              <a:t>Success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2235240"/>
            <a:ext cx="82296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PET program has delivered on the benefits which it set out to achie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roving the competency of examiners to conduct search and examination to international standards (PCT standards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mbedding learning into the workplace; a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the ability to align domestic practices with international standard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s moved from project to business as usual as intend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PET has been identified as an example of better practice patent examination tra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12920" y="764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ahoma"/>
              </a:rPr>
              <a:t>Challeng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12920" y="1484280"/>
            <a:ext cx="82296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 number of Challenges have become apparent since RPET began in April 201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ly a limited number of trainees can participate in each intake of RPE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he patent training landscape of the region has chang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cipating offices have indicated that it can be difficult to repurpose available training material for domestic purpos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Further training is required to assist RPET graduates to deliver training in their own offi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5" descr="Person in Black Pants and Red High Top Sneakers Walking on Stairs"/>
          <p:cNvPicPr/>
          <p:nvPr/>
        </p:nvPicPr>
        <p:blipFill>
          <a:blip r:embed="rId1"/>
          <a:stretch/>
        </p:blipFill>
        <p:spPr>
          <a:xfrm>
            <a:off x="2700360" y="3645000"/>
            <a:ext cx="388620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0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ahoma"/>
              </a:rPr>
              <a:t>RPET Mentoring – What is it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989000"/>
            <a:ext cx="82296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IP Australia Mentor will be assigned to each ASEAN IP Office that participated in the RPET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entors will give tailored approach to address specific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5" descr="Men, Employees, Suit, Work, Greeting, Business, Office"/>
          <p:cNvPicPr/>
          <p:nvPr/>
        </p:nvPicPr>
        <p:blipFill>
          <a:blip r:embed="rId1"/>
          <a:stretch/>
        </p:blipFill>
        <p:spPr>
          <a:xfrm>
            <a:off x="1238400" y="3068640"/>
            <a:ext cx="453708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03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ahoma"/>
              </a:rPr>
              <a:t>Objective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2235240"/>
            <a:ext cx="82296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mbed relevant aspects of the RPET program’s learning and best practices in the development of  competency-based training programs for new examiner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crease internal training capacity and self-sufficiency to provide their own training with a view to increasing cooperation between ASEAN Member States;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e their quality standards based on international standards and best practic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6T00:03:23Z</dcterms:created>
  <dc:creator>Vanessa Salter</dc:creator>
  <dc:description/>
  <dc:language>en-US</dc:language>
  <cp:lastModifiedBy>Martin Devlin</cp:lastModifiedBy>
  <dcterms:modified xsi:type="dcterms:W3CDTF">2017-05-11T08:36:03Z</dcterms:modified>
  <cp:revision>64</cp:revision>
  <dc:subject/>
  <dc:title>PowerPoint Presentation</dc:title>
</cp:coreProperties>
</file>