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3.wmf" ContentType="image/x-wmf"/>
  <Override PartName="/ppt/media/image25.png" ContentType="image/png"/>
  <Override PartName="/ppt/media/image24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1.png" ContentType="image/png"/>
  <Override PartName="/ppt/media/image31.wmf" ContentType="image/x-wmf"/>
  <Override PartName="/ppt/media/image6.wmf" ContentType="image/x-wmf"/>
  <Override PartName="/ppt/media/image32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7.wmf" ContentType="image/x-wmf"/>
  <Override PartName="/ppt/media/image36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35.png" ContentType="image/png"/>
  <Override PartName="/ppt/media/image4.wmf" ContentType="image/x-wmf"/>
  <Override PartName="/ppt/media/image27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4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EE50FF-2AD7-44A7-9DDF-F35AA2380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BE8597-0026-4EE5-99FB-EC2ECB301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8996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89140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888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8996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89140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140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88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140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996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89140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888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996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89140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8996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89140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8888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8996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89140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996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140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88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996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140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786E-A68F-4996-8D94-57577E9EB1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8FD5-18DE-4A83-B248-81B3897E79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360A-04CD-4D17-B63C-3E7672B0F2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DE14-8AD8-4267-AAAB-D402F338A6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7662-A2EF-44C8-BE2D-BA40E4B9F9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4858-A1C8-42D5-91F8-BAB1536E00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7D90-B3C0-4EAA-92AF-B847608F7F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8929-4DD0-4103-8970-C6517E165F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74A8-986A-42D8-862D-520B4384AF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0C85-A035-4219-B846-EEC9CAAABB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B1E3-45D5-40F5-B490-2852E602D4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18996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89140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888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18996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89140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61F3-FB1B-4AD0-BD5A-2870C4032E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18996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89140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8888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18996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89140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96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9140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8888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96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9140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96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89140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888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96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89140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96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89140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888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96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89140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8880" y="3922920"/>
            <a:ext cx="798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82080" y="177336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88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82080" y="3922920"/>
            <a:ext cx="389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18996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891400" y="177336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888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18996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891400" y="3922920"/>
            <a:ext cx="257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6497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408c"/>
                </a:solidFill>
                <a:latin typeface="Arial"/>
              </a:rPr>
              <a:t>Intro-</a:t>
            </a:r>
            <a:fld id="{305866C1-23EC-47F2-8EB9-31A03DD01574}" type="slidenum">
              <a:rPr b="0" lang="en-US" sz="1100" spc="-1" strike="noStrike">
                <a:solidFill>
                  <a:srgbClr val="00408c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408c"/>
                </a:solidFill>
                <a:latin typeface="Arial"/>
              </a:rPr>
              <a:t>20.05.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1"/>
          </p:nvPr>
        </p:nvSpPr>
        <p:spPr>
          <a:xfrm>
            <a:off x="468360" y="6192360"/>
            <a:ext cx="790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24FA-35BA-44DE-A3E3-46E7F9A50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488880" y="1773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PCT – Statistic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International Autho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ieth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h, February 6 to 8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863640" y="2397240"/>
            <a:ext cx="741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6756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CT Monthly Filing Trends (Canada/Sweden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0" y="1628640"/>
            <a:ext cx="9144000" cy="3998880"/>
            <a:chOff x="0" y="1628640"/>
            <a:chExt cx="9144000" cy="3998880"/>
          </a:xfrm>
        </p:grpSpPr>
        <p:pic>
          <p:nvPicPr>
            <p:cNvPr id="501" name="" descr=""/>
            <p:cNvPicPr/>
            <p:nvPr/>
          </p:nvPicPr>
          <p:blipFill>
            <a:blip r:embed="rId2"/>
            <a:stretch/>
          </p:blipFill>
          <p:spPr>
            <a:xfrm>
              <a:off x="4427640" y="1628640"/>
              <a:ext cx="4716360" cy="39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0" y="1700280"/>
              <a:ext cx="4500720" cy="38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FDB3-0815-4940-A5BE-8DDCD16EC8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Country share in total PCT applica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197000"/>
            <a:ext cx="9144000" cy="3963960"/>
            <a:chOff x="0" y="1197000"/>
            <a:chExt cx="9144000" cy="3963960"/>
          </a:xfrm>
        </p:grpSpPr>
        <p:pic>
          <p:nvPicPr>
            <p:cNvPr id="505" name="" descr=""/>
            <p:cNvPicPr/>
            <p:nvPr/>
          </p:nvPicPr>
          <p:blipFill>
            <a:blip r:embed="rId2"/>
            <a:stretch/>
          </p:blipFill>
          <p:spPr>
            <a:xfrm>
              <a:off x="0" y="1484280"/>
              <a:ext cx="9144000" cy="36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1836000" y="1197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33440" y="1197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9C72-BD70-429D-815D-90586350BB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CT Applications filed by Region of Origin for Asia, Europe and North America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6769080" cy="44323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677160" y="5445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 became biggest PCT filing region in 2010 and now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38.8% of all PCT applications (about 8% higher than Eur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CE57-287C-4B73-B8A5-322A88AC8C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820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CT Applications filed by Region of Origin of Applicant for Africa, Latin America and the Caribbean and Oceania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6985080" cy="44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4031-6DB8-4EAA-A22D-313D3C315B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Main Fields of Technology for PCT Published Applications and Changes from 2010 to 201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9280" y="335736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rgest increas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 machinery:   +23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s, pumps, turbi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+16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technology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+1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: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+13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00360" y="3428640"/>
            <a:ext cx="4260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reases in 4 out of 35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mmunication  processes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5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fine chemistry: -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eutic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1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biological    materi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440" y="1341360"/>
            <a:ext cx="9138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ields of Technology for PCT Applications by Percentage of To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gital Communication Technolo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1,574 applications (7.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lectrical Machine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1,296 applications (6.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dical Technology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0,753 applications (6.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puter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0,455 applications (6.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6265-1723-4C01-87F1-33AD6F5B84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CT – Method of Filing (1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-3240" y="1197000"/>
            <a:ext cx="914724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4CC9-3546-4B9E-B5FD-53FFA11103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CT - Method of Filing (2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68360" y="1484280"/>
          <a:ext cx="8207280" cy="3745080"/>
        </p:xfrm>
        <a:graphic>
          <a:graphicData uri="http://schemas.openxmlformats.org/drawingml/2006/table">
            <a:tbl>
              <a:tblPr/>
              <a:tblGrid>
                <a:gridCol w="1449360"/>
                <a:gridCol w="1351080"/>
                <a:gridCol w="1352520"/>
                <a:gridCol w="1352520"/>
                <a:gridCol w="1349280"/>
                <a:gridCol w="1352520"/>
              </a:tblGrid>
              <a:tr h="444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are of PCT filings by Medium of Filing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S-W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(to da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4FBB-37C1-48C9-9B3F-1B55C950AE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Distribution of Application Languages for 2012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348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591480" y="5373720"/>
            <a:ext cx="53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s are estimates from PCT filings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A6A6-5CCA-4D69-9760-5FCA5B9CAF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2) PCT – National Phase Entrie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280" y="501336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4,800 non-resident national phase entries for 2011 (3.2% growth on 2010) 500,400 total national phase entries (resident plus non-resident) for 2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http://www.wipo.int/export/sites/www/ipstats/en/wipi/graphs/a_5_3_1.gif"/>
          <p:cNvPicPr/>
          <p:nvPr/>
        </p:nvPicPr>
        <p:blipFill>
          <a:blip r:embed="rId2"/>
          <a:srcRect l="0" t="12994" r="0" b="0"/>
          <a:stretch/>
        </p:blipFill>
        <p:spPr>
          <a:xfrm>
            <a:off x="0" y="1341360"/>
            <a:ext cx="9144000" cy="360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ED65-9887-4E03-BFA4-570F490C94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496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PCT National Phase Entries for Top 15 Countries of Origin 2010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0920" y="5229360"/>
            <a:ext cx="85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op 15 origins except the Netherlands saw growth in National Phase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growth in National Phase Entries from China (+ 46.8%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FD76-92E2-456C-B878-334602244F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T International Fi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Trends and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of Applicants and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of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um of F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T National Phas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s and Comparison with Direct “Paris” Fi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of Applic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T – Patent Prosecution High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E262-AD62-4AB1-89D3-D74ADF71FB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PCT National Phase Entries before Top 15 Designated Offices 2011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531" name="Rectangle 3"/>
          <p:cNvGraphicFramePr/>
          <p:nvPr/>
        </p:nvGraphicFramePr>
        <p:xfrm>
          <a:off x="395280" y="1125360"/>
          <a:ext cx="8066160" cy="539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2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066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169B-1BA1-4249-AC4D-E92F17728E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National Phase Entries by Top Patent Office and Country of Origin in 2011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34" name="" descr="http://www.wipo.int/export/sites/www/ipstats/en/wipi/graphs/a_5_3_2.png"/>
          <p:cNvPicPr/>
          <p:nvPr/>
        </p:nvPicPr>
        <p:blipFill>
          <a:blip r:embed="rId2"/>
          <a:srcRect l="0" t="5607" r="0" b="12602"/>
          <a:stretch/>
        </p:blipFill>
        <p:spPr>
          <a:xfrm>
            <a:off x="250920" y="1125360"/>
            <a:ext cx="8543880" cy="494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4423-6DD5-442C-AED7-681240F8F0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Share of PCT national phase entries in total non-resident filings by selected Patent Office for 2011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36" name="" descr="http://www.wipo.int/export/sites/www/ipstats/en/wipi/graphs/a_5_3_3.gif"/>
          <p:cNvPicPr/>
          <p:nvPr/>
        </p:nvPicPr>
        <p:blipFill>
          <a:blip r:embed="rId2"/>
          <a:srcRect l="1556" t="12932" r="1556" b="16901"/>
          <a:stretch/>
        </p:blipFill>
        <p:spPr>
          <a:xfrm>
            <a:off x="0" y="1546200"/>
            <a:ext cx="9144000" cy="29923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79280" y="4724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share of PCT National Phase Entries for non-resident applications around 54% in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E70A-A967-4518-B55E-F24DC73BE6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3) International Authoritie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earch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by International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s of Transmission to International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International Search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Preliminary Examinatio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by International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s of Transmission to International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8789-068F-42EA-BF28-F9D43D164E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Distribution of ISRs established by ISA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755640" y="981000"/>
          <a:ext cx="7378560" cy="45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981000"/>
                    <a:ext cx="73785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4680" y="5589720"/>
            <a:ext cx="71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ased on transmittal date of the ISR to the International Bur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80" y="5950080"/>
            <a:ext cx="70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s and percentage share of ISRs for 2011 shown as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 includes numbers from January to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8880" y="1052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1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54160" y="13413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006160" y="1628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30160" y="22766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4520" y="19890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2520" y="25653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82520" y="28526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10880" y="32130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10880" y="3500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7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10880" y="3860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37800" y="41497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4880" y="44370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3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422160" y="4724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22160" y="5084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988A-180E-4387-B1CB-57C00D67B8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Average Timeliness in Transmitting ISRs to the IB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496000" cy="37130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95280" y="4869000"/>
            <a:ext cx="779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Time in Transmitting ISRs to the IB was 16.4 months in 2011, the shortest over the past decade.  68.3% of ISRs were received within 17 months in 2011 [67.0% in 2010]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an - Sept 2012, 69.0% of ISRS were received within 17 mo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ss soon to be measured according to Rule 4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278B-0980-4A39-8066-348666A2D8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Timeliness in Transmitting ISR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50920" y="4653000"/>
            <a:ext cx="889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ss calculated as time elapsed between priority date and date ISA transmits ISR to the International Bureau (soon to be measured according to Rule 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an to Sept 2012 (2011 in brackets): &lt;17 months 69% (68.3%), 17-18 months 12.8% (12.2%), 19-20 months 11.2% (8.4%), 21-30 months 6.2% (10.3%), &gt;31 months 0.7% (0.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rcRect l="4324" t="9156" r="3543" b="17384"/>
          <a:stretch/>
        </p:blipFill>
        <p:spPr>
          <a:xfrm>
            <a:off x="0" y="1616040"/>
            <a:ext cx="9144000" cy="289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CE7A-DC5F-4FF3-AC72-57B32A9981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Timeliness in Transmitting ISRs by ISA in 201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31035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79280" y="5229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ss calculated as time elapsed between priority date and date ISA transmits ISR to the International Bureau (soon to be measured according to Rule 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9280" y="126828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611280" y="1197000"/>
            <a:ext cx="8303760" cy="594360"/>
            <a:chOff x="611280" y="1197000"/>
            <a:chExt cx="8303760" cy="594360"/>
          </a:xfrm>
        </p:grpSpPr>
        <p:sp>
          <p:nvSpPr>
            <p:cNvPr id="570" name=""/>
            <p:cNvSpPr/>
            <p:nvPr/>
          </p:nvSpPr>
          <p:spPr>
            <a:xfrm>
              <a:off x="838692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3928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3600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2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5964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1200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8.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3564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656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1164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3564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5928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8.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11280" y="1484280"/>
              <a:ext cx="5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5.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834920" y="1484280"/>
              <a:ext cx="5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7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58920" y="1484280"/>
              <a:ext cx="5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1280" y="1484280"/>
              <a:ext cx="5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7.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0280" y="1197000"/>
              <a:ext cx="67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hare transmitted within 17 months for Jan – Sept  2012 (for comparis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5844-F3FB-40BD-B7BA-3FA7292410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Distribution of SISRs by SISA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116000" y="1268280"/>
          <a:ext cx="7272360" cy="4678560"/>
        </p:xfrm>
        <a:graphic>
          <a:graphicData uri="http://schemas.openxmlformats.org/drawingml/2006/table">
            <a:tbl>
              <a:tblPr/>
              <a:tblGrid>
                <a:gridCol w="3170160"/>
                <a:gridCol w="903240"/>
                <a:gridCol w="995400"/>
                <a:gridCol w="908280"/>
                <a:gridCol w="1295280"/>
              </a:tblGrid>
              <a:tr h="1067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ementary International Searching Auth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d Se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an Patent Off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dic Patent Instit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ssian Fed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D69A-1FB0-491B-9080-46FB040BD8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International Preliminary Examination Demands (1) 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588" name="Rectangle 3"/>
          <p:cNvGraphicFramePr/>
          <p:nvPr/>
        </p:nvGraphicFramePr>
        <p:xfrm>
          <a:off x="539640" y="836640"/>
          <a:ext cx="8136000" cy="507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836640"/>
                    <a:ext cx="813600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>
            <a:off x="332280" y="5492880"/>
            <a:ext cx="8555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for International Preliminary Examination fell by 47.0% from 2005 to 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14E0-D0CE-4B91-854A-4CBB6F3252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Content Placeholder 3"/>
          <p:cNvGraphicFramePr/>
          <p:nvPr/>
        </p:nvGraphicFramePr>
        <p:xfrm>
          <a:off x="611280" y="2060640"/>
          <a:ext cx="7708680" cy="41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Content Placeholder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060640"/>
                    <a:ext cx="770868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1) PCT International Application Filing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35" name="Content Placeholder 9"/>
          <p:cNvSpPr/>
          <p:nvPr/>
        </p:nvSpPr>
        <p:spPr>
          <a:xfrm>
            <a:off x="468360" y="907920"/>
            <a:ext cx="7988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164,338 international applications (+5.7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: 182,371 international applications (+11.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: 174,050 international applications (until end Novemb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748720" y="64533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FE43-CBFD-4A3B-951B-CEDAE85B95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79280" y="333360"/>
            <a:ext cx="86425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International Preliminary Examination Demands 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84360" y="1197000"/>
          <a:ext cx="7488000" cy="4691160"/>
        </p:xfrm>
        <a:graphic>
          <a:graphicData uri="http://schemas.openxmlformats.org/drawingml/2006/table">
            <a:tbl>
              <a:tblPr/>
              <a:tblGrid>
                <a:gridCol w="1765080"/>
                <a:gridCol w="633600"/>
                <a:gridCol w="633240"/>
                <a:gridCol w="633600"/>
                <a:gridCol w="633240"/>
                <a:gridCol w="633600"/>
                <a:gridCol w="633240"/>
                <a:gridCol w="633600"/>
                <a:gridCol w="644400"/>
                <a:gridCol w="6444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PEA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 /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'8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'6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'5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'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'2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'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'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'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z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an Patent 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'8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'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'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'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'5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'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'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'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'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'5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'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'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'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'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'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dic Patent Instit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ublic of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ssian Fe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of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'9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'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'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8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4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5777-07BB-4C6A-B43A-64662DAF18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Distribution of IPRPs by IPEA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0" y="537372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PO carried out 47.6% of IPRPs, followed by the USPTO (23.0%) and the JPO (14.6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871A-B559-4867-AA03-0C56ACED47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Average Timeliness in Transmitting IPRP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37083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53737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time taken to transmit IPRPs increased from 27.6 months in 2001 to 31.6 months in 2011 with 68.8% of IPRPs transmitted within 29 months for 2011. (67.0% from Jan to Sept 20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7CC1-9A93-4B97-854C-4A2A87A9C9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Timeliness in Transmitting IPRP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8360" y="4437000"/>
            <a:ext cx="763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ss calculated as time elapsed between priority date and date on which International Bureau receives IPRP form the I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an to Sept 2012 (2011 in brackets): &lt;29 months 67.0% (68.8%), 29-30 months 15.5% (11.5%), 31-32 months 3.6% (2.5%), &gt;32 months 13.9% (17.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270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EBF9-0EDF-4789-9C57-84F8A1BB75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Timeliness in Transmitting IPRPs by IPEA in 2011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486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ss calculated as time elapsed between priority date and date on which International Bureau receives IPRP form the I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2749680"/>
          </a:xfrm>
          <a:prstGeom prst="rect">
            <a:avLst/>
          </a:prstGeom>
          <a:ln w="0">
            <a:noFill/>
          </a:ln>
        </p:spPr>
      </p:pic>
      <p:grpSp>
        <p:nvGrpSpPr>
          <p:cNvPr id="605" name=""/>
          <p:cNvGrpSpPr/>
          <p:nvPr/>
        </p:nvGrpSpPr>
        <p:grpSpPr>
          <a:xfrm>
            <a:off x="611280" y="1197000"/>
            <a:ext cx="8303760" cy="594360"/>
            <a:chOff x="611280" y="1197000"/>
            <a:chExt cx="8303760" cy="594360"/>
          </a:xfrm>
        </p:grpSpPr>
        <p:sp>
          <p:nvSpPr>
            <p:cNvPr id="606" name=""/>
            <p:cNvSpPr/>
            <p:nvPr/>
          </p:nvSpPr>
          <p:spPr>
            <a:xfrm>
              <a:off x="838692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.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3928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3600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5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964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7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1200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43564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8656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3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1164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3564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59280" y="1484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3.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11280" y="1484280"/>
              <a:ext cx="5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35280" y="1484280"/>
              <a:ext cx="5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58920" y="1484280"/>
              <a:ext cx="5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5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1280" y="1484280"/>
              <a:ext cx="5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0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0280" y="1197000"/>
              <a:ext cx="67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hare transmitted within 29 months for Jan – Sept  2012 (for comparis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7751-EE0A-4605-A464-9894E85101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4) PCT-Patent Prosecution Highway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55640" y="6276960"/>
            <a:ext cx="62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,159 PCT-PPH requests until end June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,383 standard PPH requests in same peri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840720" cy="54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6C03-A120-4BE6-969B-3EC3F4239D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CT-PPH Grant Rate and Pendency Tim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539640" y="1089000"/>
            <a:ext cx="7488360" cy="50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6A14-4429-4212-B577-566A62B763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</a:rPr>
              <a:t>Further information:</a:t>
            </a: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00408c"/>
                </a:solidFill>
                <a:latin typeface="Arial"/>
              </a:rPr>
              <a:t>2012 PCT Yearly Review</a:t>
            </a:r>
            <a:br>
              <a:rPr sz="2800"/>
            </a:b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The International Patent System</a:t>
            </a:r>
            <a:br>
              <a:rPr sz="2800"/>
            </a:b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WIPO Publication No:901E/2012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408c"/>
                </a:solidFill>
                <a:latin typeface="Arial"/>
              </a:rPr>
              <a:t>2012 World Intellectual Property Indicators</a:t>
            </a:r>
            <a:br>
              <a:rPr sz="2800"/>
            </a:b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WIPO Publication No:941E/2012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408c"/>
                </a:solidFill>
                <a:latin typeface="Arial"/>
              </a:rPr>
              <a:t>Statistics on the PCT System</a:t>
            </a:r>
            <a:br>
              <a:rPr sz="2000"/>
            </a:b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http://www.wipo.int/ipstats/en/statistics/pct/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408c"/>
                </a:solidFill>
                <a:latin typeface="Arial"/>
              </a:rPr>
              <a:t>Patent Prosecution Highway Portal Site</a:t>
            </a:r>
            <a:br>
              <a:rPr sz="2800"/>
            </a:b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http://www.jpo.go.jp/ppph-portal/index.htm</a:t>
            </a:r>
            <a:br>
              <a:rPr sz="2000"/>
            </a:br>
            <a:endParaRPr b="0" lang="en-US" sz="20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Trends in PCT Applica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DE1D-930A-465B-A2B4-807D1A15C6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CT Applications by Top 10 Origi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440" name="Rectangle 3"/>
          <p:cNvGraphicFramePr/>
          <p:nvPr/>
        </p:nvGraphicFramePr>
        <p:xfrm>
          <a:off x="0" y="836640"/>
          <a:ext cx="9144000" cy="526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6640"/>
                    <a:ext cx="914400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2050560" y="14130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9,0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55640" y="19162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,8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87280" y="278136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,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63640" y="29242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,4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66920" y="314172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,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32846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,4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48360" y="34290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,8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51640" y="350028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,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56360" y="350028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,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32720" y="350028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,4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42920" y="566100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s represent total filings for 2011 and growth rate (%) 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 data cover January to October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1640" y="1197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56360" y="17002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60000" y="25653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35640" y="27082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12360" y="29242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17080" y="30686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48720" y="32130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0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25080" y="32846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56360" y="32846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3.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04720" y="32846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7F02-A05F-405D-8E6C-CD70049E91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CT Applications by Origins 11 to 20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464" name="Rectangle 3"/>
          <p:cNvGraphicFramePr/>
          <p:nvPr/>
        </p:nvGraphicFramePr>
        <p:xfrm>
          <a:off x="755640" y="981000"/>
          <a:ext cx="8209080" cy="4729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5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981000"/>
                    <a:ext cx="820908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900000" y="558972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s represent total filings for 2011 and growth rate (%) 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 data cover January to October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35280" y="15573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9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40000" y="17733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16360" y="22766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19640" y="26370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7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24360" y="270828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7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00720" y="29973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4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076720" y="30686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3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80000" y="30686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156360" y="30686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59640" y="32130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1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36000" y="13413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40720" y="15573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16720" y="20606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.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20000" y="24210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24720" y="24922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360" y="27813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77080" y="28526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52360" y="28526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6720" y="28526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60000" y="2997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A2C3-5585-46E2-AA43-876B64F545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CT Monthly Filing Trends (USA / Germany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0" y="1484280"/>
            <a:ext cx="8893080" cy="3754440"/>
            <a:chOff x="0" y="1484280"/>
            <a:chExt cx="8893080" cy="3754440"/>
          </a:xfrm>
        </p:grpSpPr>
        <p:pic>
          <p:nvPicPr>
            <p:cNvPr id="489" name="" descr=""/>
            <p:cNvPicPr/>
            <p:nvPr/>
          </p:nvPicPr>
          <p:blipFill>
            <a:blip r:embed="rId2"/>
            <a:stretch/>
          </p:blipFill>
          <p:spPr>
            <a:xfrm>
              <a:off x="0" y="1484280"/>
              <a:ext cx="4427640" cy="37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3"/>
            <a:stretch/>
          </p:blipFill>
          <p:spPr>
            <a:xfrm>
              <a:off x="4427640" y="1484280"/>
              <a:ext cx="4465440" cy="375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710D-65F7-45CE-A6A6-2DF1F6F61F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CT Monthly Filing Trends (Japan/ Korea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0" y="1341360"/>
            <a:ext cx="8928000" cy="3949920"/>
            <a:chOff x="0" y="1341360"/>
            <a:chExt cx="8928000" cy="394992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tretch/>
          </p:blipFill>
          <p:spPr>
            <a:xfrm>
              <a:off x="0" y="1393920"/>
              <a:ext cx="4500720" cy="37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tretch/>
          </p:blipFill>
          <p:spPr>
            <a:xfrm>
              <a:off x="4427640" y="1341360"/>
              <a:ext cx="4500360" cy="39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7F87-F0E2-496B-9D2B-6F890BDDEA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CT Monthly Filing Trends (China/ France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0" y="1413000"/>
            <a:ext cx="9144000" cy="3886200"/>
            <a:chOff x="0" y="1413000"/>
            <a:chExt cx="9144000" cy="3886200"/>
          </a:xfrm>
        </p:grpSpPr>
        <p:pic>
          <p:nvPicPr>
            <p:cNvPr id="497" name="" descr=""/>
            <p:cNvPicPr/>
            <p:nvPr/>
          </p:nvPicPr>
          <p:blipFill>
            <a:blip r:embed="rId2"/>
            <a:stretch/>
          </p:blipFill>
          <p:spPr>
            <a:xfrm>
              <a:off x="4643280" y="1413000"/>
              <a:ext cx="4500720" cy="38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3"/>
            <a:stretch/>
          </p:blipFill>
          <p:spPr>
            <a:xfrm>
              <a:off x="0" y="1413000"/>
              <a:ext cx="4643280" cy="38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6B4F-6399-4B72-9BEF-CE9189FFB1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1:31:28Z</dcterms:created>
  <dc:creator>Philip Thomas</dc:creator>
  <dc:description/>
  <dc:language>en-US</dc:language>
  <cp:lastModifiedBy>Marlow</cp:lastModifiedBy>
  <dcterms:modified xsi:type="dcterms:W3CDTF">2013-02-12T15:41:20Z</dcterms:modified>
  <cp:revision>256</cp:revision>
  <dc:subject/>
  <dc:title>The PCT – An Overview</dc:title>
</cp:coreProperties>
</file>