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24C1-F35B-4A3B-BAEC-672466B82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CF76-4DCC-48B8-BA5B-B15740678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3A58-A222-45FF-9CF1-DC29F6551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A3AA-32E0-4352-8073-E1093772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4EBB-91C3-424C-A7B0-143E1DF4B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BFCB-EA49-4BA1-AA90-359A68AB5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A0C7-A5DF-4FFE-9EAE-B1893C712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B497-0C13-4B86-A869-EAE089842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BEF4-F450-48DB-84B1-02BECABF0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5E9D-9329-4F94-B810-3E90A9983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7E7C-B008-4955-8FFF-623D7C512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BAE-7C98-4174-8212-FDF2E75A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3604-9485-4CB4-8BED-B6681C3C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po.int/ripcis/index.htm" TargetMode="External"/><Relationship Id="rId2" Type="http://schemas.openxmlformats.org/officeDocument/2006/relationships/hyperlink" Target="http://www.wipo.int/ipcpub" TargetMode="External"/><Relationship Id="rId3" Type="http://schemas.openxmlformats.org/officeDocument/2006/relationships/hyperlink" Target="http://www.wipo.int/ipc-ief/" TargetMode="External"/><Relationship Id="rId4" Type="http://schemas.openxmlformats.org/officeDocument/2006/relationships/hyperlink" Target="http://www.wipo.int/ipc/itos4ipc/ITSupport_and_download_area/20130101/pdf/scheme/full_ipc/eindex.html" TargetMode="External"/><Relationship Id="rId5" Type="http://schemas.openxmlformats.org/officeDocument/2006/relationships/hyperlink" Target="http://www.wipo.int/classifications/ipc/en/ITsupport/Version20130101/transformations/viewer/index.ht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ipo.int/ipc-ief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po.int/ipcpub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2.wipo.int/ipcpub/shared/htm/help_E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103560"/>
            <a:ext cx="6521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ENTSCOPE Users For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tools and illustrating materials in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June 18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283680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: Several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under the IPCPUBPREP on-line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what is the latest published version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eck IPC Symbol Val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n IPC Symbol version indic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one xml definition into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eb service for text categorization in the IPC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available since end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tension of the IPCCA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about precision, coverage in the on-line help of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under IPC-IT download and IT suppo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(including WSDL 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totype to illustrate calls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eb services for 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Example of potential appl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outing of text documents according to the technical field from the predicted IPC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ase Retrieval of a group patent documents potentially related to a technical text (IPCCAT + bridge of the IPC internet pub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Java client to illustrate calls to IPCCAT Web servic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1635120"/>
            <a:ext cx="916632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Download and IT support for the IPC</a:t>
            </a:r>
            <a:endParaRPr b="0" lang="en-US" sz="35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classifications/ipc/en/support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 each IPC rev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y products e.g. (PDF , statistics, valid symbol list, spreadsheet, list of affected symbols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ftware packages and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hub: http://www.wipo.int/classifications/ipc/en/ITsupport/links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vision support systems an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publication platform (IPCP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w Web services for Internet publication and 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6419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ap of IT resources for IPC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0"/>
          <p:cNvSpPr/>
          <p:nvPr/>
        </p:nvSpPr>
        <p:spPr>
          <a:xfrm flipH="1">
            <a:off x="2880" y="251460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81"/>
          <p:cNvGrpSpPr/>
          <p:nvPr/>
        </p:nvGrpSpPr>
        <p:grpSpPr>
          <a:xfrm>
            <a:off x="155520" y="1295280"/>
            <a:ext cx="2671560" cy="1600200"/>
            <a:chOff x="155520" y="1295280"/>
            <a:chExt cx="2671560" cy="1600200"/>
          </a:xfrm>
        </p:grpSpPr>
        <p:sp>
          <p:nvSpPr>
            <p:cNvPr id="87" name="Text Box 82"/>
            <p:cNvSpPr/>
            <p:nvPr/>
          </p:nvSpPr>
          <p:spPr>
            <a:xfrm>
              <a:off x="155520" y="1295280"/>
              <a:ext cx="2671560" cy="947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sion of edition N+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3"/>
            <p:cNvSpPr/>
            <p:nvPr/>
          </p:nvSpPr>
          <p:spPr>
            <a:xfrm flipH="1">
              <a:off x="1679040" y="2297160"/>
              <a:ext cx="4680" cy="5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84"/>
          <p:cNvSpPr/>
          <p:nvPr/>
        </p:nvSpPr>
        <p:spPr>
          <a:xfrm flipH="1">
            <a:off x="2880" y="4952880"/>
            <a:ext cx="9753480" cy="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5"/>
          <p:cNvSpPr/>
          <p:nvPr/>
        </p:nvSpPr>
        <p:spPr>
          <a:xfrm>
            <a:off x="155520" y="5440320"/>
            <a:ext cx="266688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of edit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6"/>
          <p:cNvGrpSpPr/>
          <p:nvPr/>
        </p:nvGrpSpPr>
        <p:grpSpPr>
          <a:xfrm>
            <a:off x="157320" y="2971800"/>
            <a:ext cx="2663640" cy="2362320"/>
            <a:chOff x="157320" y="2971800"/>
            <a:chExt cx="2663640" cy="2362320"/>
          </a:xfrm>
        </p:grpSpPr>
        <p:sp>
          <p:nvSpPr>
            <p:cNvPr id="92" name="Text Box 87"/>
            <p:cNvSpPr/>
            <p:nvPr/>
          </p:nvSpPr>
          <p:spPr>
            <a:xfrm>
              <a:off x="157320" y="2971800"/>
              <a:ext cx="2663640" cy="1818000"/>
            </a:xfrm>
            <a:prstGeom prst="rect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ar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cess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dition N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1645920" y="4800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9"/>
          <p:cNvGrpSpPr/>
          <p:nvPr/>
        </p:nvGrpSpPr>
        <p:grpSpPr>
          <a:xfrm>
            <a:off x="3203640" y="1219320"/>
            <a:ext cx="2361600" cy="1066680"/>
            <a:chOff x="3203640" y="1219320"/>
            <a:chExt cx="2361600" cy="1066680"/>
          </a:xfrm>
        </p:grpSpPr>
        <p:sp>
          <p:nvSpPr>
            <p:cNvPr id="95" name="Line 90"/>
            <p:cNvSpPr/>
            <p:nvPr/>
          </p:nvSpPr>
          <p:spPr>
            <a:xfrm flipH="1">
              <a:off x="4879800" y="1295280"/>
              <a:ext cx="685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1"/>
            <p:cNvGrpSpPr/>
            <p:nvPr/>
          </p:nvGrpSpPr>
          <p:grpSpPr>
            <a:xfrm>
              <a:off x="3203640" y="1219320"/>
              <a:ext cx="1472760" cy="1066680"/>
              <a:chOff x="3203640" y="1219320"/>
              <a:chExt cx="1472760" cy="1066680"/>
            </a:xfrm>
          </p:grpSpPr>
          <p:sp>
            <p:nvSpPr>
              <p:cNvPr id="97" name="Oval 92"/>
              <p:cNvSpPr/>
              <p:nvPr/>
            </p:nvSpPr>
            <p:spPr>
              <a:xfrm>
                <a:off x="3203640" y="1219320"/>
                <a:ext cx="1447560" cy="10666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93"/>
              <p:cNvSpPr/>
              <p:nvPr/>
            </p:nvSpPr>
            <p:spPr>
              <a:xfrm>
                <a:off x="3355920" y="1523880"/>
                <a:ext cx="13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/>
                  </a:rPr>
                  <a:t>RIPC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74"/>
          <p:cNvGrpSpPr/>
          <p:nvPr/>
        </p:nvGrpSpPr>
        <p:grpSpPr>
          <a:xfrm>
            <a:off x="4716360" y="3016080"/>
            <a:ext cx="2734920" cy="822240"/>
            <a:chOff x="4716360" y="3016080"/>
            <a:chExt cx="2734920" cy="822240"/>
          </a:xfrm>
        </p:grpSpPr>
        <p:sp>
          <p:nvSpPr>
            <p:cNvPr id="100" name="Text Box 110"/>
            <p:cNvSpPr/>
            <p:nvPr/>
          </p:nvSpPr>
          <p:spPr>
            <a:xfrm>
              <a:off x="4716360" y="3016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orm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1"/>
            <p:cNvGrpSpPr/>
            <p:nvPr/>
          </p:nvGrpSpPr>
          <p:grpSpPr>
            <a:xfrm>
              <a:off x="4959360" y="3141720"/>
              <a:ext cx="2491920" cy="696600"/>
              <a:chOff x="4959360" y="3141720"/>
              <a:chExt cx="2491920" cy="696600"/>
            </a:xfrm>
          </p:grpSpPr>
          <p:sp>
            <p:nvSpPr>
              <p:cNvPr id="102" name="Line 112"/>
              <p:cNvSpPr/>
              <p:nvPr/>
            </p:nvSpPr>
            <p:spPr>
              <a:xfrm flipV="1">
                <a:off x="6098400" y="3141720"/>
                <a:ext cx="1352880" cy="39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13"/>
              <p:cNvSpPr/>
              <p:nvPr/>
            </p:nvSpPr>
            <p:spPr>
              <a:xfrm>
                <a:off x="6050880" y="3539880"/>
                <a:ext cx="794160" cy="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14"/>
              <p:cNvSpPr/>
              <p:nvPr/>
            </p:nvSpPr>
            <p:spPr>
              <a:xfrm>
                <a:off x="4959360" y="3539880"/>
                <a:ext cx="109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5"/>
              <p:cNvSpPr/>
              <p:nvPr/>
            </p:nvSpPr>
            <p:spPr>
              <a:xfrm>
                <a:off x="6098400" y="3548160"/>
                <a:ext cx="409680" cy="29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121"/>
          <p:cNvGrpSpPr/>
          <p:nvPr/>
        </p:nvGrpSpPr>
        <p:grpSpPr>
          <a:xfrm>
            <a:off x="7451640" y="2590920"/>
            <a:ext cx="1447560" cy="550800"/>
            <a:chOff x="7451640" y="2590920"/>
            <a:chExt cx="1447560" cy="550800"/>
          </a:xfrm>
        </p:grpSpPr>
        <p:sp>
          <p:nvSpPr>
            <p:cNvPr id="107" name="Oval 122"/>
            <p:cNvSpPr/>
            <p:nvPr/>
          </p:nvSpPr>
          <p:spPr>
            <a:xfrm>
              <a:off x="7451640" y="2590920"/>
              <a:ext cx="1447560" cy="550800"/>
            </a:xfrm>
            <a:prstGeom prst="ellipse">
              <a:avLst/>
            </a:prstGeom>
            <a:solidFill>
              <a:srgbClr val="98d0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3"/>
            <p:cNvSpPr/>
            <p:nvPr/>
          </p:nvSpPr>
          <p:spPr>
            <a:xfrm>
              <a:off x="7451640" y="266724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1"/>
          <p:cNvGrpSpPr/>
          <p:nvPr/>
        </p:nvGrpSpPr>
        <p:grpSpPr>
          <a:xfrm>
            <a:off x="5435640" y="-27000"/>
            <a:ext cx="3708360" cy="2448000"/>
            <a:chOff x="5435640" y="-27000"/>
            <a:chExt cx="3708360" cy="2448000"/>
          </a:xfrm>
        </p:grpSpPr>
        <p:grpSp>
          <p:nvGrpSpPr>
            <p:cNvPr id="110" name="Group 98"/>
            <p:cNvGrpSpPr/>
            <p:nvPr/>
          </p:nvGrpSpPr>
          <p:grpSpPr>
            <a:xfrm>
              <a:off x="5715000" y="-27000"/>
              <a:ext cx="3429000" cy="2094840"/>
              <a:chOff x="5715000" y="-27000"/>
              <a:chExt cx="3429000" cy="2094840"/>
            </a:xfrm>
          </p:grpSpPr>
          <p:grpSp>
            <p:nvGrpSpPr>
              <p:cNvPr id="111" name="Group 99"/>
              <p:cNvGrpSpPr/>
              <p:nvPr/>
            </p:nvGrpSpPr>
            <p:grpSpPr>
              <a:xfrm>
                <a:off x="5715000" y="734760"/>
                <a:ext cx="1447560" cy="762120"/>
                <a:chOff x="5715000" y="734760"/>
                <a:chExt cx="1447560" cy="762120"/>
              </a:xfrm>
            </p:grpSpPr>
            <p:sp>
              <p:nvSpPr>
                <p:cNvPr id="112" name="Oval 100"/>
                <p:cNvSpPr/>
                <p:nvPr/>
              </p:nvSpPr>
              <p:spPr>
                <a:xfrm>
                  <a:off x="5715000" y="734760"/>
                  <a:ext cx="1447560" cy="76212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01"/>
                <p:cNvSpPr/>
                <p:nvPr/>
              </p:nvSpPr>
              <p:spPr>
                <a:xfrm>
                  <a:off x="5715000" y="887040"/>
                  <a:ext cx="144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-</a:t>
                  </a: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3"/>
                    </a:rPr>
                    <a:t>foru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02"/>
              <p:cNvGrpSpPr/>
              <p:nvPr/>
            </p:nvGrpSpPr>
            <p:grpSpPr>
              <a:xfrm>
                <a:off x="7314840" y="-27000"/>
                <a:ext cx="1829160" cy="2094840"/>
                <a:chOff x="7314840" y="-27000"/>
                <a:chExt cx="1829160" cy="2094840"/>
              </a:xfrm>
            </p:grpSpPr>
            <p:sp>
              <p:nvSpPr>
                <p:cNvPr id="115" name="Text Box 103"/>
                <p:cNvSpPr/>
                <p:nvPr/>
              </p:nvSpPr>
              <p:spPr>
                <a:xfrm>
                  <a:off x="7543800" y="-27000"/>
                  <a:ext cx="1600200" cy="20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PC revision sugg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ist servers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04"/>
                <p:cNvSpPr/>
                <p:nvPr/>
              </p:nvSpPr>
              <p:spPr>
                <a:xfrm flipH="1">
                  <a:off x="7314840" y="73476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05"/>
                <p:cNvSpPr/>
                <p:nvPr/>
              </p:nvSpPr>
              <p:spPr>
                <a:xfrm flipH="1" flipV="1">
                  <a:off x="7314840" y="1420200"/>
                  <a:ext cx="3049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25"/>
            <p:cNvGrpSpPr/>
            <p:nvPr/>
          </p:nvGrpSpPr>
          <p:grpSpPr>
            <a:xfrm>
              <a:off x="5435640" y="1963800"/>
              <a:ext cx="1657440" cy="457200"/>
              <a:chOff x="5435640" y="1963800"/>
              <a:chExt cx="1657440" cy="457200"/>
            </a:xfrm>
          </p:grpSpPr>
          <p:sp>
            <p:nvSpPr>
              <p:cNvPr id="119" name="Oval 126"/>
              <p:cNvSpPr/>
              <p:nvPr/>
            </p:nvSpPr>
            <p:spPr>
              <a:xfrm>
                <a:off x="5435640" y="1963800"/>
                <a:ext cx="1657440" cy="45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27"/>
              <p:cNvSpPr/>
              <p:nvPr/>
            </p:nvSpPr>
            <p:spPr>
              <a:xfrm>
                <a:off x="5564160" y="1963800"/>
                <a:ext cx="1528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Templat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Line 128"/>
            <p:cNvSpPr/>
            <p:nvPr/>
          </p:nvSpPr>
          <p:spPr>
            <a:xfrm flipV="1">
              <a:off x="6443640" y="155700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129"/>
          <p:cNvSpPr/>
          <p:nvPr/>
        </p:nvSpPr>
        <p:spPr>
          <a:xfrm>
            <a:off x="3051000" y="1066680"/>
            <a:ext cx="0" cy="548640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36"/>
          <p:cNvGrpSpPr/>
          <p:nvPr/>
        </p:nvGrpSpPr>
        <p:grpSpPr>
          <a:xfrm>
            <a:off x="6948360" y="5084640"/>
            <a:ext cx="2054160" cy="619200"/>
            <a:chOff x="6948360" y="5084640"/>
            <a:chExt cx="2054160" cy="619200"/>
          </a:xfrm>
        </p:grpSpPr>
        <p:sp>
          <p:nvSpPr>
            <p:cNvPr id="124" name="Oval 137"/>
            <p:cNvSpPr/>
            <p:nvPr/>
          </p:nvSpPr>
          <p:spPr>
            <a:xfrm>
              <a:off x="6948360" y="5084640"/>
              <a:ext cx="2054160" cy="619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8"/>
            <p:cNvSpPr/>
            <p:nvPr/>
          </p:nvSpPr>
          <p:spPr>
            <a:xfrm>
              <a:off x="7059240" y="5113080"/>
              <a:ext cx="194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PCC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75"/>
          <p:cNvGrpSpPr/>
          <p:nvPr/>
        </p:nvGrpSpPr>
        <p:grpSpPr>
          <a:xfrm>
            <a:off x="5140440" y="3284640"/>
            <a:ext cx="3919320" cy="1223640"/>
            <a:chOff x="5140440" y="3284640"/>
            <a:chExt cx="3919320" cy="1223640"/>
          </a:xfrm>
        </p:grpSpPr>
        <p:grpSp>
          <p:nvGrpSpPr>
            <p:cNvPr id="127" name="Group 106"/>
            <p:cNvGrpSpPr/>
            <p:nvPr/>
          </p:nvGrpSpPr>
          <p:grpSpPr>
            <a:xfrm>
              <a:off x="7612200" y="3284640"/>
              <a:ext cx="1447560" cy="550800"/>
              <a:chOff x="7612200" y="3284640"/>
              <a:chExt cx="1447560" cy="550800"/>
            </a:xfrm>
          </p:grpSpPr>
          <p:sp>
            <p:nvSpPr>
              <p:cNvPr id="128" name="Oval 107"/>
              <p:cNvSpPr/>
              <p:nvPr/>
            </p:nvSpPr>
            <p:spPr>
              <a:xfrm>
                <a:off x="7612200" y="328464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08"/>
              <p:cNvSpPr/>
              <p:nvPr/>
            </p:nvSpPr>
            <p:spPr>
              <a:xfrm>
                <a:off x="7612200" y="331452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/>
                  </a:rPr>
                  <a:t>PD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30"/>
            <p:cNvGrpSpPr/>
            <p:nvPr/>
          </p:nvGrpSpPr>
          <p:grpSpPr>
            <a:xfrm>
              <a:off x="5140440" y="3957480"/>
              <a:ext cx="1447560" cy="550800"/>
              <a:chOff x="5140440" y="3957480"/>
              <a:chExt cx="1447560" cy="550800"/>
            </a:xfrm>
          </p:grpSpPr>
          <p:sp>
            <p:nvSpPr>
              <p:cNvPr id="131" name="Oval 131"/>
              <p:cNvSpPr/>
              <p:nvPr/>
            </p:nvSpPr>
            <p:spPr>
              <a:xfrm>
                <a:off x="5140440" y="3957480"/>
                <a:ext cx="144756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32"/>
              <p:cNvSpPr/>
              <p:nvPr/>
            </p:nvSpPr>
            <p:spPr>
              <a:xfrm>
                <a:off x="5140440" y="3987360"/>
                <a:ext cx="1447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/>
                  </a:rPr>
                  <a:t>Static IP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54"/>
            <p:cNvGrpSpPr/>
            <p:nvPr/>
          </p:nvGrpSpPr>
          <p:grpSpPr>
            <a:xfrm>
              <a:off x="6659640" y="3860640"/>
              <a:ext cx="1806120" cy="550800"/>
              <a:chOff x="6659640" y="3860640"/>
              <a:chExt cx="1806120" cy="550800"/>
            </a:xfrm>
          </p:grpSpPr>
          <p:sp>
            <p:nvSpPr>
              <p:cNvPr id="134" name="Oval 155"/>
              <p:cNvSpPr/>
              <p:nvPr/>
            </p:nvSpPr>
            <p:spPr>
              <a:xfrm>
                <a:off x="6659640" y="3860640"/>
                <a:ext cx="1806120" cy="550800"/>
              </a:xfrm>
              <a:prstGeom prst="ellipse">
                <a:avLst/>
              </a:prstGeom>
              <a:solidFill>
                <a:srgbClr val="98d0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56"/>
              <p:cNvSpPr/>
              <p:nvPr/>
            </p:nvSpPr>
            <p:spPr>
              <a:xfrm>
                <a:off x="6659640" y="3890520"/>
                <a:ext cx="180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200" spc="-1" strike="noStrike">
                    <a:solidFill>
                      <a:srgbClr val="000000"/>
                    </a:solidFill>
                    <a:latin typeface="Arial"/>
                  </a:rPr>
                  <a:t>statistic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173"/>
          <p:cNvGrpSpPr/>
          <p:nvPr/>
        </p:nvGrpSpPr>
        <p:grpSpPr>
          <a:xfrm>
            <a:off x="3203640" y="2349360"/>
            <a:ext cx="1828800" cy="2070360"/>
            <a:chOff x="3203640" y="2349360"/>
            <a:chExt cx="1828800" cy="2070360"/>
          </a:xfrm>
        </p:grpSpPr>
        <p:sp>
          <p:nvSpPr>
            <p:cNvPr id="137" name="Oval 95"/>
            <p:cNvSpPr/>
            <p:nvPr/>
          </p:nvSpPr>
          <p:spPr>
            <a:xfrm>
              <a:off x="3203640" y="3048120"/>
              <a:ext cx="1828800" cy="1371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7"/>
            <p:cNvSpPr/>
            <p:nvPr/>
          </p:nvSpPr>
          <p:spPr>
            <a:xfrm>
              <a:off x="3432240" y="33526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MASTER FI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66"/>
            <p:cNvSpPr/>
            <p:nvPr/>
          </p:nvSpPr>
          <p:spPr>
            <a:xfrm>
              <a:off x="3851280" y="2349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78"/>
          <p:cNvGrpSpPr/>
          <p:nvPr/>
        </p:nvGrpSpPr>
        <p:grpSpPr>
          <a:xfrm>
            <a:off x="3132000" y="4581360"/>
            <a:ext cx="3541680" cy="1909800"/>
            <a:chOff x="3132000" y="4581360"/>
            <a:chExt cx="3541680" cy="1909800"/>
          </a:xfrm>
        </p:grpSpPr>
        <p:grpSp>
          <p:nvGrpSpPr>
            <p:cNvPr id="141" name="Group 117"/>
            <p:cNvGrpSpPr/>
            <p:nvPr/>
          </p:nvGrpSpPr>
          <p:grpSpPr>
            <a:xfrm>
              <a:off x="3132000" y="5327640"/>
              <a:ext cx="1513080" cy="838080"/>
              <a:chOff x="3132000" y="5327640"/>
              <a:chExt cx="1513080" cy="838080"/>
            </a:xfrm>
          </p:grpSpPr>
          <p:sp>
            <p:nvSpPr>
              <p:cNvPr id="142" name="Oval 118"/>
              <p:cNvSpPr/>
              <p:nvPr/>
            </p:nvSpPr>
            <p:spPr>
              <a:xfrm>
                <a:off x="3132000" y="5327640"/>
                <a:ext cx="1513080" cy="8380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19"/>
              <p:cNvSpPr/>
              <p:nvPr/>
            </p:nvSpPr>
            <p:spPr>
              <a:xfrm>
                <a:off x="3132000" y="5440320"/>
                <a:ext cx="1513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H" sz="2000" spc="-1" strike="noStrike">
                    <a:solidFill>
                      <a:srgbClr val="000000"/>
                    </a:solidFill>
                    <a:latin typeface="Arial"/>
                  </a:rPr>
                  <a:t>MCD @E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44"/>
            <p:cNvSpPr/>
            <p:nvPr/>
          </p:nvSpPr>
          <p:spPr>
            <a:xfrm>
              <a:off x="4859280" y="5950080"/>
              <a:ext cx="1814400" cy="54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7"/>
            <p:cNvSpPr/>
            <p:nvPr/>
          </p:nvSpPr>
          <p:spPr>
            <a:xfrm>
              <a:off x="3924360" y="4581360"/>
              <a:ext cx="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8"/>
            <p:cNvSpPr/>
            <p:nvPr/>
          </p:nvSpPr>
          <p:spPr>
            <a:xfrm flipH="1" flipV="1">
              <a:off x="4571640" y="5877000"/>
              <a:ext cx="28908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46"/>
            <p:cNvSpPr/>
            <p:nvPr/>
          </p:nvSpPr>
          <p:spPr>
            <a:xfrm>
              <a:off x="4859280" y="603720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CRE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2"/>
          <p:cNvGrpSpPr/>
          <p:nvPr/>
        </p:nvGrpSpPr>
        <p:grpSpPr>
          <a:xfrm>
            <a:off x="4859280" y="4005360"/>
            <a:ext cx="4143240" cy="2347920"/>
            <a:chOff x="4859280" y="4005360"/>
            <a:chExt cx="4143240" cy="2347920"/>
          </a:xfrm>
        </p:grpSpPr>
        <p:sp>
          <p:nvSpPr>
            <p:cNvPr id="149" name="Line 134"/>
            <p:cNvSpPr/>
            <p:nvPr/>
          </p:nvSpPr>
          <p:spPr>
            <a:xfrm>
              <a:off x="8548560" y="400536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81"/>
            <p:cNvGrpSpPr/>
            <p:nvPr/>
          </p:nvGrpSpPr>
          <p:grpSpPr>
            <a:xfrm>
              <a:off x="4859280" y="5200560"/>
              <a:ext cx="4143240" cy="1152720"/>
              <a:chOff x="4859280" y="5200560"/>
              <a:chExt cx="4143240" cy="1152720"/>
            </a:xfrm>
          </p:grpSpPr>
          <p:grpSp>
            <p:nvGrpSpPr>
              <p:cNvPr id="151" name="Group 139"/>
              <p:cNvGrpSpPr/>
              <p:nvPr/>
            </p:nvGrpSpPr>
            <p:grpSpPr>
              <a:xfrm>
                <a:off x="6948360" y="5734080"/>
                <a:ext cx="2054160" cy="619200"/>
                <a:chOff x="6948360" y="5734080"/>
                <a:chExt cx="2054160" cy="619200"/>
              </a:xfrm>
            </p:grpSpPr>
            <p:sp>
              <p:nvSpPr>
                <p:cNvPr id="152" name="Oval 140"/>
                <p:cNvSpPr/>
                <p:nvPr/>
              </p:nvSpPr>
              <p:spPr>
                <a:xfrm>
                  <a:off x="6948360" y="5734080"/>
                  <a:ext cx="2054160" cy="6192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41"/>
                <p:cNvSpPr/>
                <p:nvPr/>
              </p:nvSpPr>
              <p:spPr>
                <a:xfrm>
                  <a:off x="7059240" y="5762520"/>
                  <a:ext cx="1943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H" sz="2200" spc="-1" strike="noStrike">
                      <a:solidFill>
                        <a:srgbClr val="000000"/>
                      </a:solidFill>
                      <a:latin typeface="Arial"/>
                    </a:rPr>
                    <a:t>IPCA6TRANS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48"/>
              <p:cNvGrpSpPr/>
              <p:nvPr/>
            </p:nvGrpSpPr>
            <p:grpSpPr>
              <a:xfrm>
                <a:off x="4859280" y="5200560"/>
                <a:ext cx="1663920" cy="533520"/>
                <a:chOff x="4859280" y="5200560"/>
                <a:chExt cx="1663920" cy="533520"/>
              </a:xfrm>
            </p:grpSpPr>
            <p:sp>
              <p:nvSpPr>
                <p:cNvPr id="155" name="Oval 149"/>
                <p:cNvSpPr/>
                <p:nvPr/>
              </p:nvSpPr>
              <p:spPr>
                <a:xfrm>
                  <a:off x="4859280" y="5200560"/>
                  <a:ext cx="1663920" cy="5335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150"/>
                <p:cNvSpPr/>
                <p:nvPr/>
              </p:nvSpPr>
              <p:spPr>
                <a:xfrm>
                  <a:off x="4859280" y="5274000"/>
                  <a:ext cx="1663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PC bri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revision support systems and IPC master fil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Where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C-Efo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reworked and upgraded during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 to replace the IPC revision management system (RIPC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e impact on 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revision support systems and IPC master file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ff"/>
                </a:solidFill>
                <a:latin typeface="Arial"/>
              </a:rPr>
              <a:t>IPCRM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ject to replace the IPC revision management system (RIPC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rget production date: June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le impact on IPC ma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po.int/ipcpub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bilized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ersion 3.2 : Evolution towards service oriented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1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64" name="Oval 16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0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67" name="Oval 12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72" name="Oval 10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76" name="Oval 8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79" name="Oval 6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Perspectives: FIPCPC viewer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ject will start in second half of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unctional extension of the stabilized version of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driven display of CPC and Fi sub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 Internet publication Web servic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RL and web services of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RL based access e.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ttp://www.wipo.int/ipcpub/#refresh=notes&amp;menulang=FR&amp;notion=scheme&amp;version=20130101&amp;symbol=A01N&amp;indexes=no&amp;viewmode=a&amp;priorityorder=no&amp;showdeleted=no&amp;notes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urn a symbol selected in the IPC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validation servi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cumentation in the on-line help of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9:50:24Z</dcterms:created>
  <dc:creator>Fievet</dc:creator>
  <dc:description/>
  <dc:language>en-US</dc:language>
  <cp:lastModifiedBy>AMMANN Sandrine</cp:lastModifiedBy>
  <dcterms:modified xsi:type="dcterms:W3CDTF">2013-06-20T07:44:35Z</dcterms:modified>
  <cp:revision>52</cp:revision>
  <dc:subject>IPC</dc:subject>
  <dc:title>IT tools and illustrating materials</dc:title>
</cp:coreProperties>
</file>