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D962E-5C6E-4A29-90B4-BCBC4DD28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DE77-3568-45FA-A878-DAEEF4BD7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5291D-A838-438B-B341-1B5CD868A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53EB-C070-41DF-8A16-799A38655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C72B-6434-4DB6-AC53-B5E33EB93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2185-294A-45CE-AFC5-959E902DF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077A-15A9-4B7F-8A00-FEDE9FD7F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56DE-CA48-4DC8-B6E0-AD85F400D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E817-2D9C-4DC5-9A10-E1000D1AE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63C7-F62C-4516-954C-C3C30EFE9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B3D0F-5EFE-4603-BFF0-46389DA2C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88C2-190B-4EF8-8330-02274A1B0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0395-1ABC-41E6-987B-0B50214D9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mailto:patentscope@wipo.int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414080" y="2492280"/>
            <a:ext cx="63054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he PATENTSCOPE Search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 baseline="30000">
                <a:solidFill>
                  <a:srgbClr val="00408c"/>
                </a:solidFill>
                <a:latin typeface="Arial"/>
                <a:ea typeface="ヒラギノ角ゴ Pro W3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492360" y="5589720"/>
            <a:ext cx="2148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550960" y="4724280"/>
            <a:ext cx="40323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Christophe Mazenc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00408c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ＭＳ Ｐゴシック"/>
              </a:rPr>
              <a:t>Patentscope workshop </a:t>
            </a:r>
            <a:br>
              <a:rPr sz="2000"/>
            </a:b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ＭＳ Ｐゴシック"/>
              </a:rPr>
              <a:t>June 2013</a:t>
            </a:r>
            <a:endParaRPr b="0" lang="en-US" sz="20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946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ENTSCOPE: the team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ENTSCOPE: how do we communicate with users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ENTSCOPE: a glimpse on usage statistic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ENTSCOPE: in-depth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PATENTSCOPE: THE TEAM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724680" y="2941560"/>
            <a:ext cx="2771640" cy="631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408c"/>
                </a:solidFill>
                <a:latin typeface="Arial"/>
              </a:rPr>
              <a:t>Christophe Mazenc</a:t>
            </a:r>
            <a:endParaRPr b="0" lang="en-US" sz="1400" spc="-1" strike="noStrike">
              <a:solidFill>
                <a:srgbClr val="00408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408c"/>
                </a:solidFill>
                <a:latin typeface="Arial"/>
              </a:rPr>
              <a:t>Head, Global Databases Service</a:t>
            </a:r>
            <a:endParaRPr b="0" lang="en-US" sz="1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781560" y="4325760"/>
            <a:ext cx="2683080" cy="631440"/>
          </a:xfrm>
          <a:prstGeom prst="rect">
            <a:avLst/>
          </a:prstGeom>
          <a:solidFill>
            <a:srgbClr val="a6a6a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408c"/>
                </a:solidFill>
                <a:latin typeface="Arial"/>
              </a:rPr>
              <a:t>Iustin Diaconescu</a:t>
            </a:r>
            <a:endParaRPr b="0" lang="en-US" sz="1400" spc="-1" strike="noStrike">
              <a:solidFill>
                <a:srgbClr val="00408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408c"/>
                </a:solidFill>
                <a:latin typeface="Arial"/>
              </a:rPr>
              <a:t>Head, Patent Database Section</a:t>
            </a:r>
            <a:endParaRPr b="0" lang="en-US" sz="1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1054080" y="5678640"/>
            <a:ext cx="2114640" cy="631440"/>
          </a:xfrm>
          <a:prstGeom prst="rect">
            <a:avLst/>
          </a:prstGeom>
          <a:solidFill>
            <a:srgbClr val="a6a6a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408c"/>
                </a:solidFill>
                <a:latin typeface="Arial"/>
              </a:rPr>
              <a:t>Magdalena Zelenkovska</a:t>
            </a:r>
            <a:endParaRPr b="0" lang="en-US" sz="1400" spc="-1" strike="noStrike">
              <a:solidFill>
                <a:srgbClr val="00408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408c"/>
                </a:solidFill>
                <a:latin typeface="Arial"/>
              </a:rPr>
              <a:t>Data analyst</a:t>
            </a:r>
            <a:endParaRPr b="0" lang="en-US" sz="1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3859920" y="4334040"/>
            <a:ext cx="3454200" cy="631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408c"/>
                </a:solidFill>
                <a:latin typeface="Arial"/>
              </a:rPr>
              <a:t>Bruno Pouliquen</a:t>
            </a:r>
            <a:endParaRPr b="0" lang="en-US" sz="1400" spc="-1" strike="noStrike">
              <a:solidFill>
                <a:srgbClr val="00408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408c"/>
                </a:solidFill>
                <a:latin typeface="Arial"/>
              </a:rPr>
              <a:t>Head, New Service Development Section</a:t>
            </a:r>
            <a:endParaRPr b="0" lang="en-US" sz="1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7" name="Straight Connector 4"/>
          <p:cNvSpPr/>
          <p:nvPr/>
        </p:nvSpPr>
        <p:spPr>
          <a:xfrm>
            <a:off x="2111400" y="3571920"/>
            <a:ext cx="12600" cy="75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8" name="Straight Connector 9"/>
          <p:cNvSpPr/>
          <p:nvPr/>
        </p:nvSpPr>
        <p:spPr>
          <a:xfrm>
            <a:off x="2136600" y="373392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9" name="Straight Connector 16"/>
          <p:cNvSpPr/>
          <p:nvPr/>
        </p:nvSpPr>
        <p:spPr>
          <a:xfrm flipH="1">
            <a:off x="2111040" y="4957920"/>
            <a:ext cx="126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0" name="Straight Connector 18"/>
          <p:cNvSpPr/>
          <p:nvPr/>
        </p:nvSpPr>
        <p:spPr>
          <a:xfrm>
            <a:off x="2111400" y="3733920"/>
            <a:ext cx="318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1" name="Straight Connector 20"/>
          <p:cNvSpPr/>
          <p:nvPr/>
        </p:nvSpPr>
        <p:spPr>
          <a:xfrm>
            <a:off x="5292720" y="3733920"/>
            <a:ext cx="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2" name="TextBox 24"/>
          <p:cNvSpPr/>
          <p:nvPr/>
        </p:nvSpPr>
        <p:spPr>
          <a:xfrm>
            <a:off x="926640" y="1125360"/>
            <a:ext cx="2367720" cy="95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408c"/>
                </a:solidFill>
                <a:latin typeface="Arial"/>
              </a:rPr>
              <a:t>Yo Takagi</a:t>
            </a:r>
            <a:endParaRPr b="0" lang="en-US" sz="1400" spc="-1" strike="noStrike">
              <a:solidFill>
                <a:srgbClr val="00408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408c"/>
                </a:solidFill>
                <a:latin typeface="Arial"/>
              </a:rPr>
              <a:t>Assistant Director General</a:t>
            </a:r>
            <a:endParaRPr b="0" lang="en-US" sz="1400" spc="-1" strike="noStrike">
              <a:solidFill>
                <a:srgbClr val="00408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408c"/>
                </a:solidFill>
                <a:latin typeface="Arial"/>
              </a:rPr>
              <a:t>Global Infrastructure Sector</a:t>
            </a:r>
            <a:endParaRPr b="0" lang="en-US" sz="1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3" name="Straight Connector 22"/>
          <p:cNvSpPr/>
          <p:nvPr/>
        </p:nvSpPr>
        <p:spPr>
          <a:xfrm>
            <a:off x="2111400" y="2079720"/>
            <a:ext cx="0" cy="86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4" name="TextBox 27"/>
          <p:cNvSpPr/>
          <p:nvPr/>
        </p:nvSpPr>
        <p:spPr>
          <a:xfrm>
            <a:off x="4071960" y="2941560"/>
            <a:ext cx="1390680" cy="631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408c"/>
                </a:solidFill>
                <a:latin typeface="Arial"/>
              </a:rPr>
              <a:t>Paul Halfpenny</a:t>
            </a:r>
            <a:endParaRPr b="0" lang="en-US" sz="1400" spc="-1" strike="noStrike">
              <a:solidFill>
                <a:srgbClr val="00408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408c"/>
                </a:solidFill>
                <a:latin typeface="Arial"/>
              </a:rPr>
              <a:t>Counsellor</a:t>
            </a:r>
            <a:endParaRPr b="0" lang="en-US" sz="1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5" name="TextBox 28"/>
          <p:cNvSpPr/>
          <p:nvPr/>
        </p:nvSpPr>
        <p:spPr>
          <a:xfrm>
            <a:off x="6012000" y="2941560"/>
            <a:ext cx="2016000" cy="631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408c"/>
                </a:solidFill>
                <a:latin typeface="Arial"/>
              </a:rPr>
              <a:t>Sandrine Ammann</a:t>
            </a:r>
            <a:endParaRPr b="0" lang="en-US" sz="1400" spc="-1" strike="noStrike">
              <a:solidFill>
                <a:srgbClr val="00408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408c"/>
                </a:solidFill>
                <a:latin typeface="Arial"/>
              </a:rPr>
              <a:t>Marketing coordinator</a:t>
            </a:r>
            <a:endParaRPr b="0" lang="en-US" sz="1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6" name="Straight Connector 25"/>
          <p:cNvSpPr/>
          <p:nvPr/>
        </p:nvSpPr>
        <p:spPr>
          <a:xfrm>
            <a:off x="2111400" y="2349360"/>
            <a:ext cx="490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7" name="Straight Connector 133119"/>
          <p:cNvSpPr/>
          <p:nvPr/>
        </p:nvSpPr>
        <p:spPr>
          <a:xfrm>
            <a:off x="4767120" y="2349360"/>
            <a:ext cx="0" cy="59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8" name="Straight Connector 133121"/>
          <p:cNvSpPr/>
          <p:nvPr/>
        </p:nvSpPr>
        <p:spPr>
          <a:xfrm>
            <a:off x="7020000" y="2349360"/>
            <a:ext cx="0" cy="59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ommunication with user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SCOPE generic mailbox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tentscope@wipo.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WIPO helpdesk: </a:t>
            </a:r>
            <a:r>
              <a:rPr b="0" lang="en-US" sz="2800" spc="-1" strike="noStrike" u="sng">
                <a:solidFill>
                  <a:srgbClr val="3c8c93"/>
                </a:solidFill>
                <a:uFillTx/>
                <a:latin typeface="Arial"/>
              </a:rPr>
              <a:t>http://www.wipo.int/contact/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SCOPE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ATENTSCOPE web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ATENTSCOPE Users Forum (N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articipation and presentations in main IP information conferences (EPOPIC, PIUG, Japan Patent Fair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articipation to PDG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A glimpse of Usage statistic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gnificant usage growing slow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nd 600’000 unique visitors per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ing: more than 2 million pag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monthly used bandwidth of 3T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from all over the world, all over the c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ed categories of users: IP examiners in offices, law firms, commercial companies, research institutes and general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8:02:35Z</dcterms:created>
  <dc:creator>Christophe Mazenc</dc:creator>
  <dc:description/>
  <dc:language>en-US</dc:language>
  <cp:lastModifiedBy>MAZENC Christophe</cp:lastModifiedBy>
  <dcterms:modified xsi:type="dcterms:W3CDTF">2013-06-17T08:40:14Z</dcterms:modified>
  <cp:revision>122</cp:revision>
  <dc:subject/>
  <dc:title>Slide 1</dc:title>
</cp:coreProperties>
</file>