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8.png" ContentType="image/png"/>
  <Override PartName="/ppt/media/image31.wmf" ContentType="image/x-wmf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44.jpeg" ContentType="image/jpeg"/>
  <Override PartName="/ppt/media/image43.png" ContentType="image/png"/>
  <Override PartName="/ppt/media/image45.jpeg" ContentType="image/jpeg"/>
  <Override PartName="/ppt/media/image55.png" ContentType="image/png"/>
  <Override PartName="/ppt/media/image46.jpeg" ContentType="image/jpeg"/>
  <Override PartName="/ppt/media/image54.png" ContentType="image/png"/>
  <Override PartName="/ppt/media/image50.png" ContentType="image/png"/>
  <Override PartName="/ppt/media/image13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53.png" ContentType="image/png"/>
  <Override PartName="/ppt/media/image42.png" ContentType="image/png"/>
  <Override PartName="/ppt/media/image56.png" ContentType="image/png"/>
  <Override PartName="/ppt/media/image40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32.png" ContentType="image/png"/>
  <Override PartName="/ppt/media/image49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4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4808E-E085-4309-A358-7BDCB6DB96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4D7A-1BCD-4A75-94A3-F41307FA6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22818-8B4C-41A5-8F26-0D07C96B1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A223B-FB49-476A-B6D2-CC1B81B55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9C8A7-18BE-47CE-89B4-F0ADE8C07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8ED70-BF08-4576-BBB3-04BE1774E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AA601-3B2A-4C59-9174-878728329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F98B2-E970-4F2F-96A7-593BFAEAF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D8D66-DA86-4E72-990A-03804488D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08261-BDAE-4214-8663-D4D1E21CD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76784-7E44-486B-9B60-D7E9EC125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FD3F4-A586-4C81-9BAE-B8575FC1A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E0F6E-50D6-4FBE-B5A1-F1F92E7EB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5AD72-3ED2-4DAB-B05C-963BD02EF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C8D1B-58F3-45FD-BCF9-FB908F71F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7CDA2-B587-4273-97AC-63ED2A5FC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1D2B1-2608-4169-8D8D-39D2C8E71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FFCDC-E7B3-4869-8D9D-55C577840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FD028-E11F-4EEE-AA57-DEA326EE3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6533B-0970-4C11-8D2C-DB46EB43E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8CD10-75A5-4124-BB3B-5DFB5F798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A7204-0B82-43BA-905D-BC0D8A3BE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FA83B-3E73-43ED-AC2E-CBB8AA30C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E1A17-644F-4633-BF6B-6F5962795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AC86D-EEDF-42F2-A7D2-79B005971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93411-E273-4BFA-9D97-1ACACE7E4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59B15-4204-4D60-99C7-39150B463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85645-EA8D-4139-9D1F-8BD3A17C0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FE0D2-BE46-4AA0-BBB5-C20EDF055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D66CC-F3BD-498E-AC67-A2C6BDED3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9F6D0-F73C-4EAE-9BA3-28D16134F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E85F-0252-433D-85E9-06100A362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A0B36-4951-47EE-A021-4CC5A6D56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16C23-94ED-479C-9AD7-BF41F762A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0ED76-BC13-474B-B973-114A9842D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5F807-EA63-4AF8-B685-76813CC03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F5E81-2F7B-41C9-AA5D-74E401DC9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4B90C-51EF-41F2-AA5D-536C112E8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19708-1844-4CE5-8C24-AD5BDF17D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110D7-DAE8-4A02-9C5C-9670A8344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5888B-9DA5-439B-A278-5BECEDD04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86CA1-2473-4EF2-9BAC-0EB7B046D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6117-3E6B-4512-9123-616158F93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D99D1-0785-453A-85B5-7CFC0566E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7473F-DA82-42CD-9389-600AF2531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47F1C-8DD0-450A-A443-7BBFB05C2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616DD-F177-4724-A554-04348A73C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528BC-3CB3-426D-A7AE-66E734828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A3CB-9ED1-4792-95A8-2C562A21B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A5993-84DB-4F7A-A9D2-7A2752548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4DD3F-BF4F-4C97-A935-DF2CB2CB2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630F0-D918-4520-B163-6B295EF30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8FCDE-E8A7-4E24-B0B7-74AD8EC1A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AB89C-922A-45AA-AD6C-C7B87C583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6278D-5D8E-4B85-B852-949BF598D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FAEF7-33DF-4223-82CE-6FA016809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C67C4-D075-45A2-8DF2-AC478F626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C1789-9C12-45BA-9651-02CC6CA8C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313F5-0D79-435D-9B42-8DC7E7A81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1C297-00ED-4342-919C-E0A784B1A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36C07-7720-4D29-BD53-737F8C0D7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B0AB3-1A51-43C6-8494-A66FEBC52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15D3A-D962-42D0-9F63-9563B137B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D7D6B-4698-4A5D-9240-C86411EC1C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2BAD7-17F3-4363-BEDA-397FB82317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49B8C-B18A-4440-9384-CF3B9CAB21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0C98F-B764-42EB-9DAC-61D1017B84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4D254-BB67-4FB0-B516-9CA295895E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AC211-72CC-4749-99A3-535711B9B2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44850-A55A-4080-A876-1ED2CF4A96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F281B-01A5-4FD4-B558-4F295BD80F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6F9FC-658B-4267-BE9A-B38E9DBE03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8B924-DC05-47F4-8DAE-E2050195E7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5D6D4-5D60-457F-B3FD-20797991BE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1D636-C159-4138-B567-D86FE37F3B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26901-2D3E-4924-9D74-325601BC57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5.pn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5.pn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43.pn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43.pn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43.png"/><Relationship Id="rId6" Type="http://schemas.openxmlformats.org/officeDocument/2006/relationships/image" Target="../media/image4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5.pn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402920" y="3716280"/>
            <a:ext cx="6264360" cy="13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PATENTSCO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WIPO’s flagship online patent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6249960" y="5229360"/>
            <a:ext cx="2147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300" spc="-1" strike="noStrike">
                <a:solidFill>
                  <a:srgbClr val="3399ff"/>
                </a:solidFill>
                <a:latin typeface="Arial Black"/>
                <a:ea typeface="ヒラギノ角ゴ Pro W3"/>
              </a:rPr>
              <a:t>Geneva,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99ff"/>
                </a:solidFill>
                <a:latin typeface="Arial Black"/>
                <a:ea typeface="ヒラギノ角ゴ Pro W3"/>
              </a:rPr>
              <a:t>June 201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914400" y="3809880"/>
            <a:ext cx="380880" cy="3812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1230480" y="5805360"/>
            <a:ext cx="693396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Iustin Diacones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Head, Patent Databases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7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8894880" cy="542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2"/>
          <a:stretch/>
        </p:blipFill>
        <p:spPr>
          <a:xfrm>
            <a:off x="69840" y="765000"/>
            <a:ext cx="8894880" cy="23720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3"/>
          <a:stretch/>
        </p:blipFill>
        <p:spPr>
          <a:xfrm>
            <a:off x="98280" y="3357720"/>
            <a:ext cx="7713720" cy="303840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10"/>
          <p:cNvSpPr/>
          <p:nvPr/>
        </p:nvSpPr>
        <p:spPr>
          <a:xfrm>
            <a:off x="468360" y="476280"/>
            <a:ext cx="71280" cy="431640"/>
          </a:xfrm>
          <a:prstGeom prst="upDownArrow">
            <a:avLst>
              <a:gd name="adj1" fmla="val 50000"/>
              <a:gd name="adj2" fmla="val 120550"/>
            </a:avLst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1"/>
          <p:cNvSpPr/>
          <p:nvPr/>
        </p:nvSpPr>
        <p:spPr>
          <a:xfrm>
            <a:off x="468360" y="1197000"/>
            <a:ext cx="71280" cy="2376360"/>
          </a:xfrm>
          <a:prstGeom prst="upDownArrow">
            <a:avLst>
              <a:gd name="adj1" fmla="val 50000"/>
              <a:gd name="adj2" fmla="val 663681"/>
            </a:avLst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3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395280" y="0"/>
            <a:ext cx="72010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08c"/>
                </a:solidFill>
                <a:latin typeface="Arial"/>
              </a:rPr>
              <a:t>Search Forms -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7659720" cy="7239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"/>
          <p:cNvPicPr/>
          <p:nvPr/>
        </p:nvPicPr>
        <p:blipFill>
          <a:blip r:embed="rId2"/>
          <a:stretch/>
        </p:blipFill>
        <p:spPr>
          <a:xfrm>
            <a:off x="611280" y="1268280"/>
            <a:ext cx="7659720" cy="1704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"/>
          <p:cNvPicPr/>
          <p:nvPr/>
        </p:nvPicPr>
        <p:blipFill>
          <a:blip r:embed="rId3"/>
          <a:stretch/>
        </p:blipFill>
        <p:spPr>
          <a:xfrm>
            <a:off x="826920" y="2997360"/>
            <a:ext cx="7685280" cy="268596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3"/>
          <p:cNvSpPr/>
          <p:nvPr/>
        </p:nvSpPr>
        <p:spPr>
          <a:xfrm>
            <a:off x="468360" y="476280"/>
            <a:ext cx="7632720" cy="720720"/>
          </a:xfrm>
          <a:prstGeom prst="rect">
            <a:avLst/>
          </a:pr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4"/>
          <p:cNvSpPr/>
          <p:nvPr/>
        </p:nvSpPr>
        <p:spPr>
          <a:xfrm>
            <a:off x="611280" y="1268280"/>
            <a:ext cx="7632720" cy="1729080"/>
          </a:xfrm>
          <a:prstGeom prst="rect">
            <a:avLst/>
          </a:pr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5"/>
          <p:cNvSpPr/>
          <p:nvPr/>
        </p:nvSpPr>
        <p:spPr>
          <a:xfrm>
            <a:off x="826920" y="3068640"/>
            <a:ext cx="7632720" cy="2592360"/>
          </a:xfrm>
          <a:prstGeom prst="rect">
            <a:avLst/>
          </a:pr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5010120" cy="296208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5"/>
          <p:cNvSpPr/>
          <p:nvPr/>
        </p:nvSpPr>
        <p:spPr>
          <a:xfrm>
            <a:off x="2484360" y="3573360"/>
            <a:ext cx="432000" cy="576360"/>
          </a:xfrm>
          <a:prstGeom prst="downArrow">
            <a:avLst>
              <a:gd name="adj1" fmla="val 50000"/>
              <a:gd name="adj2" fmla="val 33354"/>
            </a:avLst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539640" y="476280"/>
            <a:ext cx="5040360" cy="3024000"/>
          </a:xfrm>
          <a:prstGeom prst="flowChartProcess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539640" y="4149720"/>
            <a:ext cx="8425080" cy="1800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_AB:("electric bicyle"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 “power bike” OR ”electric bike”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 DE_AB:"elektrisches Steuerungseinrichtung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 FR_AB:("portage cycle électriques OR "bicyclette à assistance électrique"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 JA_AB: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電気 サイクル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 OR "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動力 サイクル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 OR "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パワー サイクル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 KO_AB:("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자전거 전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" OR "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자전거 전동식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"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 ZH_AB:("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电工 装有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" OR "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电子 装有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"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395280" y="0"/>
            <a:ext cx="72010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08c"/>
                </a:solidFill>
                <a:latin typeface="Arial"/>
              </a:rPr>
              <a:t>Search Forms – Cross Lingual Expa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186920" y="1773000"/>
            <a:ext cx="77058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search forms to suit different types of users.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mple Search, Field Search, Advanced Search, Multilingual 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 search fields 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_ALLTXT, ALLNAMES, PCT_LASTPUB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d Multi-lingual Stemm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ced Search capabilities such 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plex boolean, wildcards, proximity, fuzzy, and range que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Features – Search Fo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186920" y="1773000"/>
            <a:ext cx="77058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:pct_lastpubdate  and PA:(University of California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CC:IN and IPC:A61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_ALLTXT:(electric NEAR bicyc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_AB:((elect* or solar) NEAR (bike* OR bicycle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Features – Search query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resList1"/>
          <p:cNvPicPr/>
          <p:nvPr/>
        </p:nvPicPr>
        <p:blipFill>
          <a:blip r:embed="rId1"/>
          <a:stretch/>
        </p:blipFill>
        <p:spPr>
          <a:xfrm>
            <a:off x="755640" y="404640"/>
            <a:ext cx="7621560" cy="560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186920" y="1773000"/>
            <a:ext cx="77058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iciently manage large result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rt results by search relevancy, latest Publication or application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, Complete, Image Vie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lighting with advanced cap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rporated translate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ing by specific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SS, Excel down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Features – Result L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resList2"/>
          <p:cNvPicPr/>
          <p:nvPr/>
        </p:nvPicPr>
        <p:blipFill>
          <a:blip r:embed="rId1"/>
          <a:stretch/>
        </p:blipFill>
        <p:spPr>
          <a:xfrm>
            <a:off x="493560" y="339840"/>
            <a:ext cx="8155080" cy="56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resList3"/>
          <p:cNvPicPr/>
          <p:nvPr/>
        </p:nvPicPr>
        <p:blipFill>
          <a:blip r:embed="rId1"/>
          <a:stretch/>
        </p:blipFill>
        <p:spPr>
          <a:xfrm>
            <a:off x="755640" y="333360"/>
            <a:ext cx="7688160" cy="584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687240" y="357120"/>
            <a:ext cx="7770960" cy="61452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5"/>
          <p:cNvSpPr/>
          <p:nvPr/>
        </p:nvSpPr>
        <p:spPr>
          <a:xfrm>
            <a:off x="755640" y="2708280"/>
            <a:ext cx="2160720" cy="1728720"/>
          </a:xfrm>
          <a:prstGeom prst="rect">
            <a:avLst/>
          </a:pr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2987640" y="2708280"/>
            <a:ext cx="2305080" cy="1728720"/>
          </a:xfrm>
          <a:prstGeom prst="rect">
            <a:avLst/>
          </a:pr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5364000" y="2708280"/>
            <a:ext cx="2953080" cy="1728720"/>
          </a:xfrm>
          <a:prstGeom prst="rect">
            <a:avLst/>
          </a:pr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755640" y="4869000"/>
            <a:ext cx="2879640" cy="1655640"/>
          </a:xfrm>
          <a:prstGeom prst="rect">
            <a:avLst/>
          </a:pr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3708360" y="4869000"/>
            <a:ext cx="2879640" cy="1655640"/>
          </a:xfrm>
          <a:prstGeom prst="rect">
            <a:avLst/>
          </a:pr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6661080" y="4869000"/>
            <a:ext cx="1727280" cy="1655640"/>
          </a:xfrm>
          <a:prstGeom prst="rect">
            <a:avLst/>
          </a:pr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6920" y="1773000"/>
            <a:ext cx="77058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ENTSC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ion &amp; 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’s n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-324000" y="-247680"/>
            <a:ext cx="9792000" cy="73533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5"/>
          <p:cNvSpPr/>
          <p:nvPr/>
        </p:nvSpPr>
        <p:spPr>
          <a:xfrm>
            <a:off x="1547640" y="1844640"/>
            <a:ext cx="2232360" cy="360360"/>
          </a:xfrm>
          <a:prstGeom prst="rect">
            <a:avLst/>
          </a:pr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3780000" y="1268280"/>
            <a:ext cx="863280" cy="289080"/>
          </a:xfrm>
          <a:prstGeom prst="rect">
            <a:avLst/>
          </a:pr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2054160" y="3213000"/>
            <a:ext cx="933480" cy="3024360"/>
          </a:xfrm>
          <a:prstGeom prst="rect">
            <a:avLst/>
          </a:pr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3059280" y="3213000"/>
            <a:ext cx="2233440" cy="3024360"/>
          </a:xfrm>
          <a:prstGeom prst="rect">
            <a:avLst/>
          </a:pr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5367240" y="3213000"/>
            <a:ext cx="1652760" cy="3024360"/>
          </a:xfrm>
          <a:prstGeom prst="rect">
            <a:avLst/>
          </a:pr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7094520" y="3213000"/>
            <a:ext cx="862200" cy="3024360"/>
          </a:xfrm>
          <a:prstGeom prst="rect">
            <a:avLst/>
          </a:pr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2"/>
          <p:cNvSpPr/>
          <p:nvPr/>
        </p:nvSpPr>
        <p:spPr>
          <a:xfrm>
            <a:off x="900000" y="3213000"/>
            <a:ext cx="1079640" cy="1079640"/>
          </a:xfrm>
          <a:prstGeom prst="rect">
            <a:avLst/>
          </a:pr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detail1"/>
          <p:cNvPicPr/>
          <p:nvPr/>
        </p:nvPicPr>
        <p:blipFill>
          <a:blip r:embed="rId1"/>
          <a:stretch/>
        </p:blipFill>
        <p:spPr>
          <a:xfrm>
            <a:off x="1332000" y="189000"/>
            <a:ext cx="6440400" cy="609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186920" y="1773000"/>
            <a:ext cx="77058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 list of related documents, national entries records and notices for PCT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R-ed description and claims contain embedded 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Non-English Title and Abstract can be now translated live to your familiar language using the inbuilt TAPTA Translat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DF page by page vie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ings navigational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Features – Application/Patent View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3" descr="detail2"/>
          <p:cNvPicPr/>
          <p:nvPr/>
        </p:nvPicPr>
        <p:blipFill>
          <a:blip r:embed="rId1"/>
          <a:stretch/>
        </p:blipFill>
        <p:spPr>
          <a:xfrm>
            <a:off x="1251000" y="2090880"/>
            <a:ext cx="6640560" cy="267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" descr="detail3"/>
          <p:cNvPicPr/>
          <p:nvPr/>
        </p:nvPicPr>
        <p:blipFill>
          <a:blip r:embed="rId1"/>
          <a:stretch/>
        </p:blipFill>
        <p:spPr>
          <a:xfrm>
            <a:off x="689040" y="474840"/>
            <a:ext cx="7764480" cy="590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detail4"/>
          <p:cNvPicPr/>
          <p:nvPr/>
        </p:nvPicPr>
        <p:blipFill>
          <a:blip r:embed="rId1"/>
          <a:stretch/>
        </p:blipFill>
        <p:spPr>
          <a:xfrm>
            <a:off x="731880" y="1514520"/>
            <a:ext cx="7678800" cy="38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186920" y="1773000"/>
            <a:ext cx="77058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l ex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C Statisti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Features – Analyzing/Exporting 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3" descr="analyze2"/>
          <p:cNvPicPr/>
          <p:nvPr/>
        </p:nvPicPr>
        <p:blipFill>
          <a:blip r:embed="rId1"/>
          <a:stretch/>
        </p:blipFill>
        <p:spPr>
          <a:xfrm>
            <a:off x="684360" y="692280"/>
            <a:ext cx="7773840" cy="520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analyze3"/>
          <p:cNvPicPr/>
          <p:nvPr/>
        </p:nvPicPr>
        <p:blipFill>
          <a:blip r:embed="rId1"/>
          <a:stretch/>
        </p:blipFill>
        <p:spPr>
          <a:xfrm>
            <a:off x="146160" y="333360"/>
            <a:ext cx="8850240" cy="543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4140360" y="404640"/>
            <a:ext cx="4628880" cy="30099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"/>
          <p:cNvPicPr/>
          <p:nvPr/>
        </p:nvPicPr>
        <p:blipFill>
          <a:blip r:embed="rId2"/>
          <a:stretch/>
        </p:blipFill>
        <p:spPr>
          <a:xfrm>
            <a:off x="324000" y="549360"/>
            <a:ext cx="2857320" cy="3343320"/>
          </a:xfrm>
          <a:prstGeom prst="rect">
            <a:avLst/>
          </a:prstGeom>
          <a:ln w="0">
            <a:noFill/>
          </a:ln>
        </p:spPr>
      </p:pic>
      <p:cxnSp>
        <p:nvCxnSpPr>
          <p:cNvPr id="159" name="AutoShape 8"/>
          <p:cNvCxnSpPr>
            <a:stCxn id="158" idx="3"/>
            <a:endCxn id="158" idx="3"/>
          </p:cNvCxnSpPr>
          <p:nvPr/>
        </p:nvCxnSpPr>
        <p:spPr>
          <a:xfrm>
            <a:off x="3181320" y="2220480"/>
            <a:ext cx="2160" cy="2520"/>
          </a:xfrm>
          <a:prstGeom prst="bentConnector3">
            <a:avLst>
              <a:gd name="adj1" fmla="val 33600000"/>
            </a:avLst>
          </a:prstGeom>
          <a:ln w="0">
            <a:noFill/>
          </a:ln>
        </p:spPr>
      </p:cxnSp>
      <p:sp>
        <p:nvSpPr>
          <p:cNvPr id="160" name="Line 13"/>
          <p:cNvSpPr/>
          <p:nvPr/>
        </p:nvSpPr>
        <p:spPr>
          <a:xfrm>
            <a:off x="3203640" y="1341360"/>
            <a:ext cx="936720" cy="863640"/>
          </a:xfrm>
          <a:prstGeom prst="line">
            <a:avLst/>
          </a:prstGeom>
          <a:ln w="442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5"/>
          <p:cNvSpPr/>
          <p:nvPr/>
        </p:nvSpPr>
        <p:spPr>
          <a:xfrm>
            <a:off x="2916360" y="1628640"/>
            <a:ext cx="718920" cy="2016360"/>
          </a:xfrm>
          <a:prstGeom prst="line">
            <a:avLst/>
          </a:prstGeom>
          <a:ln w="442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6" descr=""/>
          <p:cNvPicPr/>
          <p:nvPr/>
        </p:nvPicPr>
        <p:blipFill>
          <a:blip r:embed="rId3"/>
          <a:stretch/>
        </p:blipFill>
        <p:spPr>
          <a:xfrm>
            <a:off x="324000" y="4221000"/>
            <a:ext cx="2981160" cy="1495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7" descr=""/>
          <p:cNvPicPr/>
          <p:nvPr/>
        </p:nvPicPr>
        <p:blipFill>
          <a:blip r:embed="rId4"/>
          <a:stretch/>
        </p:blipFill>
        <p:spPr>
          <a:xfrm>
            <a:off x="3635280" y="3716280"/>
            <a:ext cx="5248440" cy="2181240"/>
          </a:xfrm>
          <a:prstGeom prst="rect">
            <a:avLst/>
          </a:prstGeom>
          <a:ln w="0">
            <a:noFill/>
          </a:ln>
        </p:spPr>
      </p:pic>
      <p:sp>
        <p:nvSpPr>
          <p:cNvPr id="164" name="Line 18"/>
          <p:cNvSpPr/>
          <p:nvPr/>
        </p:nvSpPr>
        <p:spPr>
          <a:xfrm>
            <a:off x="2411280" y="1341360"/>
            <a:ext cx="792360" cy="0"/>
          </a:xfrm>
          <a:prstGeom prst="line">
            <a:avLst/>
          </a:prstGeom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9"/>
          <p:cNvSpPr/>
          <p:nvPr/>
        </p:nvSpPr>
        <p:spPr>
          <a:xfrm>
            <a:off x="2411280" y="1341360"/>
            <a:ext cx="0" cy="142920"/>
          </a:xfrm>
          <a:prstGeom prst="line">
            <a:avLst/>
          </a:prstGeom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0"/>
          <p:cNvSpPr/>
          <p:nvPr/>
        </p:nvSpPr>
        <p:spPr>
          <a:xfrm>
            <a:off x="973080" y="1484280"/>
            <a:ext cx="142920" cy="0"/>
          </a:xfrm>
          <a:prstGeom prst="line">
            <a:avLst/>
          </a:prstGeom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1"/>
          <p:cNvSpPr/>
          <p:nvPr/>
        </p:nvSpPr>
        <p:spPr>
          <a:xfrm>
            <a:off x="971640" y="1484280"/>
            <a:ext cx="0" cy="2665440"/>
          </a:xfrm>
          <a:prstGeom prst="line">
            <a:avLst/>
          </a:prstGeom>
          <a:ln w="442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2"/>
          <p:cNvSpPr/>
          <p:nvPr/>
        </p:nvSpPr>
        <p:spPr>
          <a:xfrm flipV="1">
            <a:off x="8244000" y="1915920"/>
            <a:ext cx="360360" cy="936360"/>
          </a:xfrm>
          <a:prstGeom prst="line">
            <a:avLst/>
          </a:prstGeom>
          <a:ln w="442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186920" y="1773000"/>
            <a:ext cx="77058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ENTSCOPE is a global public good promoting research and innov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provides all stakeholders of innovation with resources and tools for search and analysis of trends and insights in business, technology and academi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408c"/>
                </a:solidFill>
                <a:latin typeface="Arial"/>
              </a:rPr>
              <a:t>Mission &amp; Vi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5" descr="analyze1"/>
          <p:cNvPicPr/>
          <p:nvPr/>
        </p:nvPicPr>
        <p:blipFill>
          <a:blip r:embed="rId1"/>
          <a:stretch/>
        </p:blipFill>
        <p:spPr>
          <a:xfrm>
            <a:off x="746280" y="476280"/>
            <a:ext cx="7650000" cy="534348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6"/>
          <p:cNvSpPr/>
          <p:nvPr/>
        </p:nvSpPr>
        <p:spPr>
          <a:xfrm>
            <a:off x="2700360" y="3213000"/>
            <a:ext cx="936720" cy="1079640"/>
          </a:xfrm>
          <a:prstGeom prst="rect">
            <a:avLst/>
          </a:pr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7"/>
          <p:cNvSpPr/>
          <p:nvPr/>
        </p:nvSpPr>
        <p:spPr>
          <a:xfrm>
            <a:off x="1979640" y="3429000"/>
            <a:ext cx="720720" cy="216000"/>
          </a:xfrm>
          <a:prstGeom prst="rightArrow">
            <a:avLst>
              <a:gd name="adj1" fmla="val 50000"/>
              <a:gd name="adj2" fmla="val 83417"/>
            </a:avLst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4"/>
          <p:cNvSpPr/>
          <p:nvPr/>
        </p:nvSpPr>
        <p:spPr>
          <a:xfrm>
            <a:off x="612000" y="404640"/>
            <a:ext cx="32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08c"/>
                </a:solidFill>
                <a:latin typeface="Arial"/>
              </a:rPr>
              <a:t>Features – Query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7437240" cy="422928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6"/>
          <p:cNvSpPr/>
          <p:nvPr/>
        </p:nvSpPr>
        <p:spPr>
          <a:xfrm>
            <a:off x="5435640" y="1844640"/>
            <a:ext cx="360360" cy="360360"/>
          </a:xfrm>
          <a:prstGeom prst="rect">
            <a:avLst/>
          </a:pr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1546200" y="2276640"/>
            <a:ext cx="5762520" cy="2808000"/>
          </a:xfrm>
          <a:prstGeom prst="rect">
            <a:avLst/>
          </a:pr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1835280" y="2852640"/>
            <a:ext cx="3673440" cy="216000"/>
          </a:xfrm>
          <a:prstGeom prst="rect">
            <a:avLst/>
          </a:pr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1906560" y="3860640"/>
            <a:ext cx="3673440" cy="216000"/>
          </a:xfrm>
          <a:prstGeom prst="rect">
            <a:avLst/>
          </a:pr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0"/>
          <p:cNvSpPr/>
          <p:nvPr/>
        </p:nvSpPr>
        <p:spPr>
          <a:xfrm>
            <a:off x="2050920" y="3213000"/>
            <a:ext cx="2665440" cy="216000"/>
          </a:xfrm>
          <a:prstGeom prst="rect">
            <a:avLst/>
          </a:pr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6920" y="1773000"/>
            <a:ext cx="77058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ENTSC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Mission &amp; 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What’s n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186920" y="1773000"/>
            <a:ext cx="77058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novators (research and innovation stakeholders such as companies and universit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s (patent offices and policy mak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ors and analy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publ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Audi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6920" y="1773000"/>
            <a:ext cx="77058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ENTSC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Mission &amp; 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What’s n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3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Statistic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Object 4"/>
          <p:cNvGraphicFramePr/>
          <p:nvPr/>
        </p:nvGraphicFramePr>
        <p:xfrm>
          <a:off x="681120" y="274680"/>
          <a:ext cx="7780320" cy="585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274680"/>
                    <a:ext cx="7780320" cy="58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6920" y="1773000"/>
            <a:ext cx="77058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ENTSC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Mission &amp; 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’s n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What’s New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6920" y="1773000"/>
            <a:ext cx="77058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l text search in Japan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orts to break the language barri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C codes translation, Tapta, Google, Bing Translation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search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censing Request, Third Party Observ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6877080" y="5950080"/>
            <a:ext cx="2016000" cy="71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c"/>
                </a:solidFill>
                <a:latin typeface="Arial"/>
              </a:rPr>
              <a:t>What’s new: Full text search in Japanese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pril 2012, PATENTSCOPE uses the LUCENE Kuromoji morphological analyzer (contributed by : Atilika Inc.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アティリカ株式会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panese text is tokenized in « words » before indexation and the obtained « words » are indexed the same way as for lati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ximity queries are more meaning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R to be adapted to use Kuromoji in the near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6877080" y="5950080"/>
            <a:ext cx="2016000" cy="71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Kuromoji segmentation example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熱交換形換気装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EAT EXCHANGE TYPE VENTILATION SYSTEM (PCT/JP2012/00243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熱     交換     形     換気     装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EAT EXCHANGE SHAPE VENTILATION EQUIPMENT (Google transl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186920" y="1773000"/>
            <a:ext cx="77058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ee public World Top resource of searchable patent description and claims (full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irst site to view weekly PCT pub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arch and read all patent collections in a familiar language and read in your own langu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database with a global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Strengt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6877080" y="5950080"/>
            <a:ext cx="2016000" cy="71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Kuromoji highlight example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pic>
        <p:nvPicPr>
          <p:cNvPr id="200" name="Picture 6" descr="highlighter"/>
          <p:cNvPicPr/>
          <p:nvPr/>
        </p:nvPicPr>
        <p:blipFill>
          <a:blip r:embed="rId1"/>
          <a:stretch/>
        </p:blipFill>
        <p:spPr>
          <a:xfrm>
            <a:off x="585720" y="1035000"/>
            <a:ext cx="7972560" cy="50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6877080" y="5950080"/>
            <a:ext cx="2016000" cy="71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"/>
          <p:cNvPicPr/>
          <p:nvPr/>
        </p:nvPicPr>
        <p:blipFill>
          <a:blip r:embed="rId1"/>
          <a:stretch/>
        </p:blipFill>
        <p:spPr>
          <a:xfrm>
            <a:off x="611280" y="115920"/>
            <a:ext cx="7789680" cy="637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What’s New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6920" y="1773000"/>
            <a:ext cx="77058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Full text search in Japan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s to break the language barri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C codes translation, Tapta, Google, Bing Translation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Electronic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New search op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Licensing Request, Third Party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408c"/>
                </a:solidFill>
                <a:latin typeface="Arial"/>
              </a:rPr>
              <a:t>Mouse over display of translated IPC co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14" descr=""/>
          <p:cNvPicPr/>
          <p:nvPr/>
        </p:nvPicPr>
        <p:blipFill>
          <a:blip r:embed="rId1"/>
          <a:stretch/>
        </p:blipFill>
        <p:spPr>
          <a:xfrm>
            <a:off x="490680" y="1452600"/>
            <a:ext cx="8164440" cy="39528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5" descr=""/>
          <p:cNvPicPr/>
          <p:nvPr/>
        </p:nvPicPr>
        <p:blipFill>
          <a:blip r:embed="rId2"/>
          <a:stretch/>
        </p:blipFill>
        <p:spPr>
          <a:xfrm>
            <a:off x="179280" y="3068640"/>
            <a:ext cx="6257880" cy="111456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16"/>
          <p:cNvSpPr/>
          <p:nvPr/>
        </p:nvSpPr>
        <p:spPr>
          <a:xfrm>
            <a:off x="5651640" y="4221000"/>
            <a:ext cx="720720" cy="360360"/>
          </a:xfrm>
          <a:prstGeom prst="rect">
            <a:avLst/>
          </a:pr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7"/>
          <p:cNvSpPr/>
          <p:nvPr/>
        </p:nvSpPr>
        <p:spPr>
          <a:xfrm>
            <a:off x="179280" y="3068640"/>
            <a:ext cx="6265800" cy="1081080"/>
          </a:xfrm>
          <a:prstGeom prst="rect">
            <a:avLst/>
          </a:pr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408c"/>
                </a:solidFill>
                <a:latin typeface="Arial"/>
              </a:rPr>
              <a:t>Machine Translation of results li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8244000" y="6165720"/>
            <a:ext cx="720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9" descr="translate"/>
          <p:cNvPicPr/>
          <p:nvPr/>
        </p:nvPicPr>
        <p:blipFill>
          <a:blip r:embed="rId1"/>
          <a:stretch/>
        </p:blipFill>
        <p:spPr>
          <a:xfrm>
            <a:off x="585720" y="900000"/>
            <a:ext cx="7972560" cy="50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3"/>
          <p:cNvSpPr/>
          <p:nvPr/>
        </p:nvSpPr>
        <p:spPr>
          <a:xfrm>
            <a:off x="8244000" y="6165720"/>
            <a:ext cx="720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8" descr="bing"/>
          <p:cNvPicPr/>
          <p:nvPr/>
        </p:nvPicPr>
        <p:blipFill>
          <a:blip r:embed="rId1"/>
          <a:stretch/>
        </p:blipFill>
        <p:spPr>
          <a:xfrm>
            <a:off x="233280" y="900000"/>
            <a:ext cx="8677440" cy="50580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9"/>
          <p:cNvSpPr/>
          <p:nvPr/>
        </p:nvSpPr>
        <p:spPr>
          <a:xfrm>
            <a:off x="468360" y="0"/>
            <a:ext cx="776124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408c"/>
                </a:solidFill>
                <a:latin typeface="Arial"/>
              </a:rPr>
              <a:t>Machine Translation of Description/Clai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Object 2"/>
          <p:cNvGraphicFramePr/>
          <p:nvPr/>
        </p:nvGraphicFramePr>
        <p:xfrm>
          <a:off x="2627280" y="189000"/>
          <a:ext cx="352908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189000"/>
                    <a:ext cx="352908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9" name="Picture 3" descr=""/>
          <p:cNvPicPr/>
          <p:nvPr/>
        </p:nvPicPr>
        <p:blipFill>
          <a:blip r:embed="rId3"/>
          <a:stretch/>
        </p:blipFill>
        <p:spPr>
          <a:xfrm>
            <a:off x="324000" y="1052640"/>
            <a:ext cx="6913440" cy="82368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  <p:pic>
        <p:nvPicPr>
          <p:cNvPr id="220" name="Picture 4" descr=""/>
          <p:cNvPicPr/>
          <p:nvPr/>
        </p:nvPicPr>
        <p:blipFill>
          <a:blip r:embed="rId4"/>
          <a:stretch/>
        </p:blipFill>
        <p:spPr>
          <a:xfrm>
            <a:off x="6659640" y="1628640"/>
            <a:ext cx="1655640" cy="48600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  <p:pic>
        <p:nvPicPr>
          <p:cNvPr id="221" name="Picture 5" descr=""/>
          <p:cNvPicPr/>
          <p:nvPr/>
        </p:nvPicPr>
        <p:blipFill>
          <a:blip r:embed="rId5"/>
          <a:stretch/>
        </p:blipFill>
        <p:spPr>
          <a:xfrm>
            <a:off x="250920" y="2205000"/>
            <a:ext cx="7535880" cy="2943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222" name="Picture 6" descr=""/>
          <p:cNvPicPr/>
          <p:nvPr/>
        </p:nvPicPr>
        <p:blipFill>
          <a:blip r:embed="rId6"/>
          <a:stretch/>
        </p:blipFill>
        <p:spPr>
          <a:xfrm>
            <a:off x="2124000" y="3789360"/>
            <a:ext cx="6842160" cy="28018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What’s New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86920" y="1773000"/>
            <a:ext cx="77058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Full text search in Japan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Efforts to break the language barrier</a:t>
            </a:r>
            <a:br>
              <a:rPr sz="2400"/>
            </a:b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IPC codes translation, Tapta, Google, Bing Translation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ctronic produ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New search op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Licensing Request, Third Party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What’s new?    New bulk E. Products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dvds2"/>
          <p:cNvPicPr/>
          <p:nvPr/>
        </p:nvPicPr>
        <p:blipFill>
          <a:blip r:embed="rId1"/>
          <a:stretch/>
        </p:blipFill>
        <p:spPr>
          <a:xfrm>
            <a:off x="684360" y="1773360"/>
            <a:ext cx="930240" cy="930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xml2.stroked"/>
          <p:cNvPicPr/>
          <p:nvPr/>
        </p:nvPicPr>
        <p:blipFill>
          <a:blip r:embed="rId2"/>
          <a:stretch/>
        </p:blipFill>
        <p:spPr>
          <a:xfrm>
            <a:off x="684360" y="3213000"/>
            <a:ext cx="930240" cy="9302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dvd_3"/>
          <p:cNvPicPr/>
          <p:nvPr/>
        </p:nvPicPr>
        <p:blipFill>
          <a:blip r:embed="rId3"/>
          <a:stretch/>
        </p:blipFill>
        <p:spPr>
          <a:xfrm>
            <a:off x="611280" y="4581360"/>
            <a:ext cx="1071360" cy="107964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7"/>
          <p:cNvSpPr/>
          <p:nvPr/>
        </p:nvSpPr>
        <p:spPr>
          <a:xfrm>
            <a:off x="1835280" y="1700280"/>
            <a:ext cx="57085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CT OCR Backfile Asian langu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&gt; Provided on DV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&gt; Searchable full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1908000" y="3141720"/>
            <a:ext cx="57088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CT XML Back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&gt; Provided on DV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&gt; Searchable full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9"/>
          <p:cNvSpPr/>
          <p:nvPr/>
        </p:nvSpPr>
        <p:spPr>
          <a:xfrm>
            <a:off x="1979640" y="4653000"/>
            <a:ext cx="57085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CT Backfile Bibliograp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&gt; Provided on DV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&gt; Searchable full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What’s New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6920" y="1773000"/>
            <a:ext cx="77058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Full text search in Japan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Efforts to break the language barrier</a:t>
            </a:r>
            <a:br>
              <a:rPr sz="2400"/>
            </a:b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IPC codes translation, Tapta, Google, Bing Translation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Electronic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w search opera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Licensing Reques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Third Party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6920" y="1773000"/>
            <a:ext cx="77058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ENTSC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Mission &amp; 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ve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What’s n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1186920" y="1773000"/>
            <a:ext cx="77058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owerful NEAR operato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_TI:(bicycle NEAR7 electric) AND EN_AB:((solar or electric) NEAR (bicycle OR bike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EFORE operator: </a:t>
            </a:r>
            <a:br>
              <a:rPr sz="2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_ALLTXT:(electric BEFORE bicycle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mpty field operator: </a:t>
            </a:r>
            <a:br>
              <a:rPr sz="2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:US and PRIORPCTWO:[* TO *]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he US patents that are PCT appli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New features – New opera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What’s New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6920" y="1773000"/>
            <a:ext cx="77058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Full text search in Japan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Efforts to break the language barrier</a:t>
            </a:r>
            <a:br>
              <a:rPr sz="2400"/>
            </a:b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IPC codes translation, Tapta, Google, Bing Translation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Electronic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New search op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censing Reques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Party Observ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T applicants can signal their willingness to license their patents (see </a:t>
            </a:r>
            <a:r>
              <a:rPr b="0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http://www.wipo.int/edocs/pctndocs/en/2012/pct_news_2012_13.pd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force since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e when filing and up to the expiration of the 30-month time period after f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censing information viewable and searchable in PATENT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408c"/>
                </a:solidFill>
                <a:latin typeface="Arial"/>
              </a:rPr>
              <a:t>What’s new? PCT Licensing fe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408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408c"/>
                </a:solidFill>
                <a:latin typeface="Arial"/>
              </a:rPr>
              <a:t>What’s new? Licensing feature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2" descr="licensing1"/>
          <p:cNvPicPr/>
          <p:nvPr/>
        </p:nvPicPr>
        <p:blipFill>
          <a:blip r:embed="rId1"/>
          <a:stretch/>
        </p:blipFill>
        <p:spPr>
          <a:xfrm>
            <a:off x="585720" y="880920"/>
            <a:ext cx="7972560" cy="509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5"/>
          <p:cNvSpPr/>
          <p:nvPr/>
        </p:nvSpPr>
        <p:spPr>
          <a:xfrm>
            <a:off x="6877080" y="5950080"/>
            <a:ext cx="2016000" cy="71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8" descr="licensing3"/>
          <p:cNvPicPr/>
          <p:nvPr/>
        </p:nvPicPr>
        <p:blipFill>
          <a:blip r:embed="rId1"/>
          <a:stretch/>
        </p:blipFill>
        <p:spPr>
          <a:xfrm>
            <a:off x="585720" y="671400"/>
            <a:ext cx="7972560" cy="55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5529240" cy="674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408c"/>
                </a:solidFill>
                <a:latin typeface="Arial"/>
              </a:rPr>
              <a:t>What’s new? PCT Third party observations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457200" y="1773360"/>
            <a:ext cx="822960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ive way for third parties to bring relevant prior art to the attention of applicants, International Authorities and designated Offices during the international phase of PCT processing (see </a:t>
            </a:r>
            <a:r>
              <a:rPr b="0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http://www.wipo.int/pct/en/epct/pdf/epct_observations.pd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perations since July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fee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e after publication and until 28-months from the priority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8" descr="submitO"/>
          <p:cNvPicPr/>
          <p:nvPr/>
        </p:nvPicPr>
        <p:blipFill>
          <a:blip r:embed="rId1"/>
          <a:stretch/>
        </p:blipFill>
        <p:spPr>
          <a:xfrm>
            <a:off x="585720" y="666720"/>
            <a:ext cx="7972560" cy="552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4" descr=""/>
          <p:cNvPicPr/>
          <p:nvPr/>
        </p:nvPicPr>
        <p:blipFill>
          <a:blip r:embed="rId1"/>
          <a:stretch/>
        </p:blipFill>
        <p:spPr>
          <a:xfrm>
            <a:off x="108000" y="476280"/>
            <a:ext cx="8634240" cy="545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5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8820360" cy="457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186920" y="1773000"/>
            <a:ext cx="77058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’s situatio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2 national/regional collections including big offices like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CT, US, EPO, Japan, Korea, Russia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 million biblio records, 20 million full text 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y soon China, Canada, Australia, 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Pursuing a global cover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0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7675560" cy="5324400"/>
          </a:xfrm>
          <a:prstGeom prst="rect">
            <a:avLst/>
          </a:prstGeom>
          <a:ln w="0">
            <a:noFill/>
          </a:ln>
        </p:spPr>
      </p:pic>
      <p:sp>
        <p:nvSpPr>
          <p:cNvPr id="255" name="AutoShape 23"/>
          <p:cNvSpPr/>
          <p:nvPr/>
        </p:nvSpPr>
        <p:spPr>
          <a:xfrm>
            <a:off x="611280" y="3141720"/>
            <a:ext cx="756108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4" descr=""/>
          <p:cNvPicPr/>
          <p:nvPr/>
        </p:nvPicPr>
        <p:blipFill>
          <a:blip r:embed="rId1"/>
          <a:stretch/>
        </p:blipFill>
        <p:spPr>
          <a:xfrm>
            <a:off x="-52560" y="376200"/>
            <a:ext cx="9249120" cy="610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5" descr=""/>
          <p:cNvPicPr/>
          <p:nvPr/>
        </p:nvPicPr>
        <p:blipFill>
          <a:blip r:embed="rId1"/>
          <a:stretch/>
        </p:blipFill>
        <p:spPr>
          <a:xfrm>
            <a:off x="95400" y="114480"/>
            <a:ext cx="8783640" cy="598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c"/>
                </a:solidFill>
                <a:latin typeface="Arial"/>
              </a:rPr>
              <a:t>What’s new – Improve User Communication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in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atisfaction surv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entscope@wipo.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4" descr=""/>
          <p:cNvPicPr/>
          <p:nvPr/>
        </p:nvPicPr>
        <p:blipFill>
          <a:blip r:embed="rId1"/>
          <a:stretch/>
        </p:blipFill>
        <p:spPr>
          <a:xfrm>
            <a:off x="2987640" y="2565360"/>
            <a:ext cx="2664000" cy="11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186920" y="1773000"/>
            <a:ext cx="77058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ed States of America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1790 to 2013, 10 million records, full text from 19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pan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1993 to 2013, 8.3 million patent records, 7 million patent full text 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na 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million patents and applications to be added in a few month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overage – Recently add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186920" y="1773360"/>
            <a:ext cx="77058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R is performed weekly for the PCT applications; worse cases verified and analyzed by human operators afterwa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R for the national collections is performed on a regular ba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://patentscope.wipo.int/search/en/help/data_coverage.js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overage – Full text OC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6920" y="1773000"/>
            <a:ext cx="77058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ENTSC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Mission &amp; 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What’s n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10:11:44Z</dcterms:created>
  <dc:creator>Iustin Diaconescu</dc:creator>
  <dc:description/>
  <dc:language>en-US</dc:language>
  <cp:lastModifiedBy>AMMANN Sandrine</cp:lastModifiedBy>
  <dcterms:modified xsi:type="dcterms:W3CDTF">2013-06-20T07:43:38Z</dcterms:modified>
  <cp:revision>214</cp:revision>
  <dc:subject/>
  <dc:title>Slide 1</dc:title>
</cp:coreProperties>
</file>