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B1CE-3411-4742-84AB-19B360869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CFBA-5178-4467-AB53-ED5338233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6538-F78B-4585-B6D0-E76E6911D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AC28-B549-45FB-B8A1-0D32E590C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0FC6-8BC3-4BF2-97D2-325DD6AA4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3DD4-7041-4F21-ADAD-C201E526F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3234-019B-4882-BE8D-4037DF101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4FDC-0785-4AB2-9106-9C84BFEC1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2767-A4D6-49AB-AE10-D35BFBD39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BF87-4BD7-487D-AE05-FA50973C2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191D-FDD2-4DA7-BBE7-7159D4DC7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D7E5-3CD3-484D-A3E0-D982D8A47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668-BE7E-4038-AADA-BFDB72935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14080" y="2492280"/>
            <a:ext cx="63054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ENTSCOPE and Leg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92360" y="5589720"/>
            <a:ext cx="2148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550960" y="4724280"/>
            <a:ext cx="4032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hristophe Mazenc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408c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atentscope workshop </a:t>
            </a:r>
            <a:br>
              <a:rPr sz="2000"/>
            </a:b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June 2013</a:t>
            </a: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94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PO Legal Status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ENTSCOPE’s Legal Status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information on National Phase Entri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WIPO Legal status surve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98100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in 2010 (questionnaire sent to all member offices) 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 u="sng">
                <a:solidFill>
                  <a:srgbClr val="3c8c93"/>
                </a:solidFill>
                <a:uFillTx/>
                <a:latin typeface="Arial"/>
              </a:rPr>
              <a:t>http://www.wipo.int/patentscope/en/programs/legal_status/index.html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Being reviewed with focus on systems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pdate to be published in PATENTSCOPE when finalized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PATENTSCOPE legal status strategy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yet a priority (may appear as objective for next bian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ng current IMPADOC would not bring additional benefi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nherent very DIFFICULT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ny different 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ata not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«Versatile» data: difficult to stay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Federated registers approach with PATENTSCOPE linking to national registers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national phase entri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39640" y="1282680"/>
            <a:ext cx="8261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national phase entri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ceived from 47 offices (last ones since 2011: AT, NZ, CU, 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last month: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till a challenge to receive complete and timely PCT NPEs from PCT member states (147 contracting st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Updated once a week in 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ent to EPO for inclusion in INPADOC when authorized by the sourc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CT national phase dat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or XML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Code (ST.3 uppercase: e.g. K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IA number (format: PCT/ROYYY/NNNN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ational Applic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atus Co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: National Phase Entry (mand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: National Publication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: Refusal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: Gran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:withdrawal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ate of action (yyymm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ent to EPO for inclusion in INPADOC when authorized by the sourc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Christophe Mazenc</dc:creator>
  <dc:description/>
  <dc:language>en-US</dc:language>
  <cp:lastModifiedBy>MAZENC Christophe</cp:lastModifiedBy>
  <dcterms:modified xsi:type="dcterms:W3CDTF">2013-06-18T06:28:03Z</dcterms:modified>
  <cp:revision>131</cp:revision>
  <dc:subject/>
  <dc:title>Slide 1</dc:title>
</cp:coreProperties>
</file>