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81D9-3F99-450F-9C5A-AB640C593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BB64-C3E2-4901-87F6-1F6FE879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5E46-8D6B-44E1-9088-2F9FBBB9A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4031-DB34-4FAD-86F3-C4DF377ED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FF5B-DDF7-455B-853E-41225E1F4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A0F3-371B-4CB3-A013-54C291330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AEBC-8FC7-4ED2-87FC-0F3A50C20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ABB6-8533-4BB2-AC49-5F3E86C64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E8B1-C719-4F33-A35F-9BEFC56D4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B74D-1D1E-4B88-9B03-1BE570412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34B1-E26C-4A8B-AB79-169E20DEA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1BCA-2886-48CD-827E-1CC58EDB9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98D3-C964-4E50-B722-76A5C211D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6046-79F7-4C45-8A6A-D88EA15A2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64F3-0BB4-41FE-98C1-82BCBEDF6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9320" y="4182840"/>
            <a:ext cx="493704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899b"/>
                </a:solidFill>
                <a:latin typeface="Arial"/>
              </a:rPr>
              <a:t>eP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249960" y="5157720"/>
            <a:ext cx="21477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899b"/>
                </a:solidFill>
                <a:latin typeface="Arial"/>
                <a:ea typeface="ヒラギノ角ゴ Pro W3"/>
              </a:rPr>
              <a:t>Ann Bard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899b"/>
                </a:solidFill>
                <a:latin typeface="Arial"/>
                <a:ea typeface="ヒラギノ角ゴ Pro W3"/>
              </a:rPr>
              <a:t>PCT Business Development Division</a:t>
            </a:r>
            <a:r>
              <a:rPr b="0" lang="en-US" sz="1800" spc="-1" strike="noStrike">
                <a:solidFill>
                  <a:srgbClr val="70899b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Live ePCT Demo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70899b"/>
                </a:solidFill>
                <a:latin typeface="Arial"/>
              </a:rPr>
              <a:t>ePCT Workbench</a:t>
            </a:r>
            <a:endParaRPr b="0" lang="en-US" sz="32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914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70899b"/>
                </a:solidFill>
                <a:latin typeface="Arial"/>
              </a:rPr>
              <a:t>ePCT Action – 92bis request</a:t>
            </a:r>
            <a:endParaRPr b="0" lang="en-US" sz="32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669780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70899b"/>
                </a:solidFill>
                <a:latin typeface="Arial"/>
              </a:rPr>
              <a:t>ePCT Action – Chapter II Demand</a:t>
            </a:r>
            <a:r>
              <a:rPr b="0" lang="fr-CH" sz="3600" spc="-1" strike="noStrike">
                <a:solidFill>
                  <a:srgbClr val="70899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1037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70899b"/>
                </a:solidFill>
                <a:latin typeface="Arial"/>
              </a:rPr>
              <a:t>ePCT - Upload Documents</a:t>
            </a:r>
            <a:endParaRPr b="0" lang="en-US" sz="32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544176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70899b"/>
                </a:solidFill>
                <a:latin typeface="Arial"/>
              </a:rPr>
              <a:t>ePCT - Preview Publication Front Page</a:t>
            </a:r>
            <a:endParaRPr b="0" lang="en-US" sz="32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7058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PCT Communications before ePCT</a:t>
            </a:r>
            <a:br>
              <a:rPr sz="3600"/>
            </a:br>
            <a:r>
              <a:rPr b="0" lang="en-US" sz="2800" spc="-1" strike="noStrike">
                <a:solidFill>
                  <a:srgbClr val="70899b"/>
                </a:solidFill>
                <a:latin typeface="Arial"/>
              </a:rPr>
              <a:t>(an approximation)</a:t>
            </a:r>
            <a:endParaRPr b="0" lang="en-US" sz="2800" spc="-1" strike="noStrike">
              <a:solidFill>
                <a:srgbClr val="70899b"/>
              </a:solidFill>
              <a:latin typeface="Arial"/>
            </a:endParaRPr>
          </a:p>
        </p:txBody>
      </p:sp>
      <p:pic>
        <p:nvPicPr>
          <p:cNvPr id="88" name="Picture 3" descr="safe"/>
          <p:cNvPicPr/>
          <p:nvPr/>
        </p:nvPicPr>
        <p:blipFill>
          <a:blip r:embed="rId1"/>
          <a:stretch/>
        </p:blipFill>
        <p:spPr>
          <a:xfrm>
            <a:off x="755640" y="4869000"/>
            <a:ext cx="1019160" cy="1056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safe"/>
          <p:cNvPicPr/>
          <p:nvPr/>
        </p:nvPicPr>
        <p:blipFill>
          <a:blip r:embed="rId2"/>
          <a:stretch/>
        </p:blipFill>
        <p:spPr>
          <a:xfrm>
            <a:off x="7020000" y="4869000"/>
            <a:ext cx="1019160" cy="1056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afe"/>
          <p:cNvPicPr/>
          <p:nvPr/>
        </p:nvPicPr>
        <p:blipFill>
          <a:blip r:embed="rId3"/>
          <a:stretch/>
        </p:blipFill>
        <p:spPr>
          <a:xfrm>
            <a:off x="3995640" y="1484280"/>
            <a:ext cx="1019160" cy="1057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419640" y="1197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B file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443640" y="45752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SA file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50920" y="45752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O file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sad_person"/>
          <p:cNvPicPr/>
          <p:nvPr/>
        </p:nvPicPr>
        <p:blipFill>
          <a:blip r:embed="rId4"/>
          <a:stretch/>
        </p:blipFill>
        <p:spPr>
          <a:xfrm>
            <a:off x="4067280" y="3770280"/>
            <a:ext cx="761760" cy="1171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4572000" y="35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1908000" y="3746520"/>
            <a:ext cx="2124360" cy="833400"/>
          </a:xfrm>
          <a:custGeom>
            <a:avLst/>
            <a:gdLst/>
            <a:ahLst/>
            <a:rect l="l" t="t" r="r" b="b"/>
            <a:pathLst>
              <a:path w="1338" h="525">
                <a:moveTo>
                  <a:pt x="1338" y="136"/>
                </a:moveTo>
                <a:cubicBezTo>
                  <a:pt x="1227" y="129"/>
                  <a:pt x="806" y="103"/>
                  <a:pt x="674" y="92"/>
                </a:cubicBezTo>
                <a:cubicBezTo>
                  <a:pt x="542" y="81"/>
                  <a:pt x="656" y="0"/>
                  <a:pt x="544" y="72"/>
                </a:cubicBezTo>
                <a:cubicBezTo>
                  <a:pt x="432" y="144"/>
                  <a:pt x="91" y="449"/>
                  <a:pt x="0" y="52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lightning"/>
          <p:cNvPicPr/>
          <p:nvPr/>
        </p:nvPicPr>
        <p:blipFill>
          <a:blip r:embed="rId5"/>
          <a:stretch/>
        </p:blipFill>
        <p:spPr>
          <a:xfrm>
            <a:off x="2484360" y="3573360"/>
            <a:ext cx="88596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Freeform 13"/>
          <p:cNvSpPr/>
          <p:nvPr/>
        </p:nvSpPr>
        <p:spPr>
          <a:xfrm>
            <a:off x="2227320" y="4267080"/>
            <a:ext cx="1793880" cy="515880"/>
          </a:xfrm>
          <a:custGeom>
            <a:avLst/>
            <a:gdLst/>
            <a:ahLst/>
            <a:rect l="l" t="t" r="r" b="b"/>
            <a:pathLst>
              <a:path w="1130" h="325">
                <a:moveTo>
                  <a:pt x="1130" y="0"/>
                </a:moveTo>
                <a:cubicBezTo>
                  <a:pt x="1054" y="30"/>
                  <a:pt x="860" y="116"/>
                  <a:pt x="672" y="170"/>
                </a:cubicBezTo>
                <a:cubicBezTo>
                  <a:pt x="484" y="224"/>
                  <a:pt x="140" y="293"/>
                  <a:pt x="0" y="32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snailmail2"/>
          <p:cNvPicPr/>
          <p:nvPr/>
        </p:nvPicPr>
        <p:blipFill>
          <a:blip r:embed="rId6"/>
          <a:stretch/>
        </p:blipFill>
        <p:spPr>
          <a:xfrm>
            <a:off x="2843280" y="4221000"/>
            <a:ext cx="684000" cy="53352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15"/>
          <p:cNvSpPr/>
          <p:nvPr/>
        </p:nvSpPr>
        <p:spPr>
          <a:xfrm>
            <a:off x="1324080" y="1933560"/>
            <a:ext cx="2603520" cy="2568600"/>
          </a:xfrm>
          <a:custGeom>
            <a:avLst/>
            <a:gdLst/>
            <a:ahLst/>
            <a:rect l="l" t="t" r="r" b="b"/>
            <a:pathLst>
              <a:path w="1640" h="1618">
                <a:moveTo>
                  <a:pt x="1640" y="0"/>
                </a:moveTo>
                <a:cubicBezTo>
                  <a:pt x="1449" y="84"/>
                  <a:pt x="768" y="233"/>
                  <a:pt x="495" y="503"/>
                </a:cubicBezTo>
                <a:cubicBezTo>
                  <a:pt x="222" y="773"/>
                  <a:pt x="103" y="1386"/>
                  <a:pt x="0" y="161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lightning"/>
          <p:cNvPicPr/>
          <p:nvPr/>
        </p:nvPicPr>
        <p:blipFill>
          <a:blip r:embed="rId7"/>
          <a:stretch/>
        </p:blipFill>
        <p:spPr>
          <a:xfrm>
            <a:off x="1763640" y="2421000"/>
            <a:ext cx="885960" cy="533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7"/>
          <p:cNvSpPr/>
          <p:nvPr/>
        </p:nvSpPr>
        <p:spPr>
          <a:xfrm>
            <a:off x="179280" y="206064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record copies+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many 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8"/>
          <p:cNvSpPr/>
          <p:nvPr/>
        </p:nvSpPr>
        <p:spPr>
          <a:xfrm>
            <a:off x="1946160" y="5649840"/>
            <a:ext cx="4923000" cy="212760"/>
          </a:xfrm>
          <a:custGeom>
            <a:avLst/>
            <a:gdLst/>
            <a:ahLst/>
            <a:rect l="l" t="t" r="r" b="b"/>
            <a:pathLst>
              <a:path w="3101" h="134">
                <a:moveTo>
                  <a:pt x="3101" y="8"/>
                </a:moveTo>
                <a:cubicBezTo>
                  <a:pt x="2846" y="29"/>
                  <a:pt x="2090" y="134"/>
                  <a:pt x="1573" y="133"/>
                </a:cubicBezTo>
                <a:cubicBezTo>
                  <a:pt x="1056" y="132"/>
                  <a:pt x="328" y="28"/>
                  <a:pt x="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9"/>
          <p:cNvSpPr/>
          <p:nvPr/>
        </p:nvSpPr>
        <p:spPr>
          <a:xfrm>
            <a:off x="4900680" y="4255920"/>
            <a:ext cx="2050920" cy="925560"/>
          </a:xfrm>
          <a:custGeom>
            <a:avLst/>
            <a:gdLst/>
            <a:ahLst/>
            <a:rect l="l" t="t" r="r" b="b"/>
            <a:pathLst>
              <a:path w="1292" h="583">
                <a:moveTo>
                  <a:pt x="1292" y="583"/>
                </a:moveTo>
                <a:cubicBezTo>
                  <a:pt x="1195" y="503"/>
                  <a:pt x="924" y="200"/>
                  <a:pt x="709" y="103"/>
                </a:cubicBezTo>
                <a:cubicBezTo>
                  <a:pt x="494" y="6"/>
                  <a:pt x="148" y="21"/>
                  <a:pt x="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0"/>
          <p:cNvSpPr/>
          <p:nvPr/>
        </p:nvSpPr>
        <p:spPr>
          <a:xfrm>
            <a:off x="4376880" y="2521080"/>
            <a:ext cx="101520" cy="1195200"/>
          </a:xfrm>
          <a:custGeom>
            <a:avLst/>
            <a:gdLst/>
            <a:ahLst/>
            <a:rect l="l" t="t" r="r" b="b"/>
            <a:pathLst>
              <a:path w="64" h="753">
                <a:moveTo>
                  <a:pt x="34" y="0"/>
                </a:moveTo>
                <a:cubicBezTo>
                  <a:pt x="29" y="65"/>
                  <a:pt x="0" y="266"/>
                  <a:pt x="5" y="391"/>
                </a:cubicBezTo>
                <a:cubicBezTo>
                  <a:pt x="10" y="516"/>
                  <a:pt x="52" y="678"/>
                  <a:pt x="64" y="75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1" descr="snailmail2"/>
          <p:cNvPicPr/>
          <p:nvPr/>
        </p:nvPicPr>
        <p:blipFill>
          <a:blip r:embed="rId8"/>
          <a:stretch/>
        </p:blipFill>
        <p:spPr>
          <a:xfrm>
            <a:off x="4067280" y="2852640"/>
            <a:ext cx="720720" cy="561960"/>
          </a:xfrm>
          <a:prstGeom prst="rect">
            <a:avLst/>
          </a:prstGeom>
          <a:ln w="0">
            <a:noFill/>
          </a:ln>
        </p:spPr>
      </p:pic>
      <p:sp>
        <p:nvSpPr>
          <p:cNvPr id="107" name="Freeform 22"/>
          <p:cNvSpPr/>
          <p:nvPr/>
        </p:nvSpPr>
        <p:spPr>
          <a:xfrm>
            <a:off x="5111640" y="1922400"/>
            <a:ext cx="2473560" cy="2556000"/>
          </a:xfrm>
          <a:custGeom>
            <a:avLst/>
            <a:gdLst/>
            <a:ahLst/>
            <a:rect l="l" t="t" r="r" b="b"/>
            <a:pathLst>
              <a:path w="1558" h="1610">
                <a:moveTo>
                  <a:pt x="1558" y="1610"/>
                </a:moveTo>
                <a:cubicBezTo>
                  <a:pt x="1490" y="1422"/>
                  <a:pt x="1412" y="748"/>
                  <a:pt x="1152" y="480"/>
                </a:cubicBezTo>
                <a:cubicBezTo>
                  <a:pt x="892" y="212"/>
                  <a:pt x="240" y="100"/>
                  <a:pt x="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3" descr="lightning"/>
          <p:cNvPicPr/>
          <p:nvPr/>
        </p:nvPicPr>
        <p:blipFill>
          <a:blip r:embed="rId9"/>
          <a:stretch/>
        </p:blipFill>
        <p:spPr>
          <a:xfrm>
            <a:off x="6372360" y="2421000"/>
            <a:ext cx="885600" cy="533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4"/>
          <p:cNvSpPr/>
          <p:nvPr/>
        </p:nvSpPr>
        <p:spPr>
          <a:xfrm>
            <a:off x="3276720" y="609300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(mainly) search cop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6372360" y="1989000"/>
            <a:ext cx="24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reports a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status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547640" y="342900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e-fi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1908000" y="479736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subsequent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correspo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4572000" y="479736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reports a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qu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9" descr="snailmail2"/>
          <p:cNvPicPr/>
          <p:nvPr/>
        </p:nvPicPr>
        <p:blipFill>
          <a:blip r:embed="rId10"/>
          <a:stretch/>
        </p:blipFill>
        <p:spPr>
          <a:xfrm>
            <a:off x="5651640" y="4076640"/>
            <a:ext cx="720720" cy="561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0" descr="snailmail2"/>
          <p:cNvPicPr/>
          <p:nvPr/>
        </p:nvPicPr>
        <p:blipFill>
          <a:blip r:embed="rId11"/>
          <a:stretch/>
        </p:blipFill>
        <p:spPr>
          <a:xfrm>
            <a:off x="4067280" y="5516640"/>
            <a:ext cx="720720" cy="561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1"/>
          <p:cNvSpPr/>
          <p:nvPr/>
        </p:nvSpPr>
        <p:spPr>
          <a:xfrm>
            <a:off x="1835280" y="263700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various correspo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5092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  <a:ea typeface="ヒラギノ角ゴ Pro W3"/>
              </a:rPr>
              <a:t>Single Common Web Interface (eP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5"/>
          <p:cNvGrpSpPr/>
          <p:nvPr/>
        </p:nvGrpSpPr>
        <p:grpSpPr>
          <a:xfrm>
            <a:off x="0" y="2997360"/>
            <a:ext cx="1031760" cy="1117440"/>
            <a:chOff x="0" y="2997360"/>
            <a:chExt cx="1031760" cy="1117440"/>
          </a:xfrm>
        </p:grpSpPr>
        <p:pic>
          <p:nvPicPr>
            <p:cNvPr id="119" name="Picture 33" descr="boss-icon"/>
            <p:cNvPicPr/>
            <p:nvPr/>
          </p:nvPicPr>
          <p:blipFill>
            <a:blip r:embed="rId1"/>
            <a:stretch/>
          </p:blipFill>
          <p:spPr>
            <a:xfrm>
              <a:off x="0" y="2997360"/>
              <a:ext cx="879480" cy="8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4"/>
            <p:cNvSpPr/>
            <p:nvPr/>
          </p:nvSpPr>
          <p:spPr>
            <a:xfrm>
              <a:off x="92160" y="3787920"/>
              <a:ext cx="9396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spcAft>
                  <a:spcPts val="374"/>
                </a:spcAft>
                <a:tabLst>
                  <a:tab algn="l" pos="0"/>
                  <a:tab algn="r" pos="58024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408c"/>
                  </a:solidFill>
                  <a:latin typeface="Arial"/>
                  <a:ea typeface="ヒラギノ角ゴ Pro W3"/>
                </a:rPr>
                <a:t>Applic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9"/>
          <p:cNvGrpSpPr/>
          <p:nvPr/>
        </p:nvGrpSpPr>
        <p:grpSpPr>
          <a:xfrm>
            <a:off x="684360" y="981000"/>
            <a:ext cx="7968600" cy="4896000"/>
            <a:chOff x="684360" y="981000"/>
            <a:chExt cx="7968600" cy="4896000"/>
          </a:xfrm>
        </p:grpSpPr>
        <p:grpSp>
          <p:nvGrpSpPr>
            <p:cNvPr id="122" name="Group 10"/>
            <p:cNvGrpSpPr/>
            <p:nvPr/>
          </p:nvGrpSpPr>
          <p:grpSpPr>
            <a:xfrm>
              <a:off x="5651640" y="981000"/>
              <a:ext cx="1038240" cy="1185840"/>
              <a:chOff x="5651640" y="981000"/>
              <a:chExt cx="1038240" cy="1185840"/>
            </a:xfrm>
          </p:grpSpPr>
          <p:pic>
            <p:nvPicPr>
              <p:cNvPr id="123" name="Picture 11" descr="RO"/>
              <p:cNvPicPr/>
              <p:nvPr/>
            </p:nvPicPr>
            <p:blipFill>
              <a:blip r:embed="rId2"/>
              <a:stretch/>
            </p:blipFill>
            <p:spPr>
              <a:xfrm>
                <a:off x="5651640" y="1268280"/>
                <a:ext cx="92556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4"/>
              <p:cNvSpPr/>
              <p:nvPr/>
            </p:nvSpPr>
            <p:spPr>
              <a:xfrm>
                <a:off x="5651640" y="981000"/>
                <a:ext cx="103824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spAutoFit/>
              </a:bodyPr>
              <a:p>
                <a:pPr algn="ctr">
                  <a:spcAft>
                    <a:spcPts val="374"/>
                  </a:spcAft>
                  <a:tabLst>
                    <a:tab algn="l" pos="0"/>
                    <a:tab algn="r" pos="58024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408c"/>
                    </a:solidFill>
                    <a:latin typeface="Arial"/>
                    <a:ea typeface="ヒラギノ角ゴ Pro W3"/>
                  </a:rPr>
                  <a:t>R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" name="Picture 13" descr="logo_2010"/>
            <p:cNvPicPr/>
            <p:nvPr/>
          </p:nvPicPr>
          <p:blipFill>
            <a:blip r:embed="rId3"/>
            <a:stretch/>
          </p:blipFill>
          <p:spPr>
            <a:xfrm>
              <a:off x="5726160" y="4941720"/>
              <a:ext cx="1293840" cy="93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Group 14"/>
            <p:cNvGrpSpPr/>
            <p:nvPr/>
          </p:nvGrpSpPr>
          <p:grpSpPr>
            <a:xfrm>
              <a:off x="7597800" y="2852640"/>
              <a:ext cx="1055160" cy="1297080"/>
              <a:chOff x="7597800" y="2852640"/>
              <a:chExt cx="1055160" cy="1297080"/>
            </a:xfrm>
          </p:grpSpPr>
          <p:pic>
            <p:nvPicPr>
              <p:cNvPr id="127" name="Picture 15" descr="ISR"/>
              <p:cNvPicPr/>
              <p:nvPr/>
            </p:nvPicPr>
            <p:blipFill>
              <a:blip r:embed="rId4"/>
              <a:stretch/>
            </p:blipFill>
            <p:spPr>
              <a:xfrm>
                <a:off x="7597800" y="2923920"/>
                <a:ext cx="983880" cy="12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Text Box 14"/>
              <p:cNvSpPr/>
              <p:nvPr/>
            </p:nvSpPr>
            <p:spPr>
              <a:xfrm>
                <a:off x="7740360" y="2852640"/>
                <a:ext cx="91260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spAutoFit/>
              </a:bodyPr>
              <a:p>
                <a:pPr algn="ctr">
                  <a:spcAft>
                    <a:spcPts val="374"/>
                  </a:spcAft>
                  <a:tabLst>
                    <a:tab algn="l" pos="0"/>
                    <a:tab algn="r" pos="58024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408c"/>
                    </a:solidFill>
                    <a:latin typeface="Arial"/>
                    <a:ea typeface="ヒラギノ角ゴ Pro W3"/>
                  </a:rPr>
                  <a:t>ISA/IPE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7"/>
            <p:cNvSpPr/>
            <p:nvPr/>
          </p:nvSpPr>
          <p:spPr>
            <a:xfrm>
              <a:off x="2268360" y="2852640"/>
              <a:ext cx="1152720" cy="1513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Common</a:t>
              </a:r>
              <a:br>
                <a:rPr sz="1200"/>
              </a:br>
              <a:r>
                <a:rPr b="0" lang="en-US" sz="12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Web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66"/>
                  </a:solidFill>
                  <a:latin typeface="Arial"/>
                  <a:ea typeface="ヒラギノ角ゴ Pro W3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8"/>
            <p:cNvSpPr/>
            <p:nvPr/>
          </p:nvSpPr>
          <p:spPr>
            <a:xfrm>
              <a:off x="3780000" y="3284640"/>
              <a:ext cx="3168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Electronic routing of documents and dat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between Offices (EDI,Trinet, web interfaces, et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9"/>
            <p:cNvSpPr/>
            <p:nvPr/>
          </p:nvSpPr>
          <p:spPr>
            <a:xfrm>
              <a:off x="684360" y="2997360"/>
              <a:ext cx="1584000" cy="1079280"/>
            </a:xfrm>
            <a:prstGeom prst="leftRightArrow">
              <a:avLst>
                <a:gd name="adj1" fmla="val 50000"/>
                <a:gd name="adj2" fmla="val 2921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20"/>
            <p:cNvGrpSpPr/>
            <p:nvPr/>
          </p:nvGrpSpPr>
          <p:grpSpPr>
            <a:xfrm>
              <a:off x="3564000" y="2133720"/>
              <a:ext cx="4110120" cy="2869560"/>
              <a:chOff x="3564000" y="2133720"/>
              <a:chExt cx="4110120" cy="2869560"/>
            </a:xfrm>
          </p:grpSpPr>
          <p:sp>
            <p:nvSpPr>
              <p:cNvPr id="133" name="AutoShape 21"/>
              <p:cNvSpPr/>
              <p:nvPr/>
            </p:nvSpPr>
            <p:spPr>
              <a:xfrm>
                <a:off x="3564000" y="2135160"/>
                <a:ext cx="411012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22"/>
              <p:cNvSpPr/>
              <p:nvPr/>
            </p:nvSpPr>
            <p:spPr>
              <a:xfrm>
                <a:off x="3567240" y="3405960"/>
                <a:ext cx="2914560" cy="1338840"/>
              </a:xfrm>
              <a:custGeom>
                <a:avLst/>
                <a:gdLst>
                  <a:gd name="textAreaLeft" fmla="*/ 0 w 2914560"/>
                  <a:gd name="textAreaRight" fmla="*/ 2914920 w 2914560"/>
                  <a:gd name="textAreaTop" fmla="*/ 0 h 1338840"/>
                  <a:gd name="textAreaBottom" fmla="*/ 1339200 h 1338840"/>
                </a:gdLst>
                <a:ahLst/>
                <a:rect l="textAreaLeft" t="textAreaTop" r="textAreaRight" b="textAreaBottom"/>
                <a:pathLst>
                  <a:path w="3672" h="1689">
                    <a:moveTo>
                      <a:pt x="0" y="0"/>
                    </a:moveTo>
                    <a:lnTo>
                      <a:pt x="153" y="0"/>
                    </a:lnTo>
                    <a:lnTo>
                      <a:pt x="284" y="4"/>
                    </a:lnTo>
                    <a:lnTo>
                      <a:pt x="428" y="11"/>
                    </a:lnTo>
                    <a:lnTo>
                      <a:pt x="574" y="16"/>
                    </a:lnTo>
                    <a:lnTo>
                      <a:pt x="733" y="29"/>
                    </a:lnTo>
                    <a:lnTo>
                      <a:pt x="887" y="44"/>
                    </a:lnTo>
                    <a:lnTo>
                      <a:pt x="1023" y="57"/>
                    </a:lnTo>
                    <a:lnTo>
                      <a:pt x="1176" y="75"/>
                    </a:lnTo>
                    <a:lnTo>
                      <a:pt x="1313" y="94"/>
                    </a:lnTo>
                    <a:lnTo>
                      <a:pt x="1439" y="112"/>
                    </a:lnTo>
                    <a:lnTo>
                      <a:pt x="1586" y="137"/>
                    </a:lnTo>
                    <a:lnTo>
                      <a:pt x="1762" y="175"/>
                    </a:lnTo>
                    <a:lnTo>
                      <a:pt x="1915" y="207"/>
                    </a:lnTo>
                    <a:lnTo>
                      <a:pt x="2085" y="250"/>
                    </a:lnTo>
                    <a:lnTo>
                      <a:pt x="2261" y="300"/>
                    </a:lnTo>
                    <a:lnTo>
                      <a:pt x="2424" y="350"/>
                    </a:lnTo>
                    <a:lnTo>
                      <a:pt x="2555" y="400"/>
                    </a:lnTo>
                    <a:lnTo>
                      <a:pt x="2721" y="462"/>
                    </a:lnTo>
                    <a:lnTo>
                      <a:pt x="2856" y="525"/>
                    </a:lnTo>
                    <a:lnTo>
                      <a:pt x="2977" y="581"/>
                    </a:lnTo>
                    <a:lnTo>
                      <a:pt x="3075" y="643"/>
                    </a:lnTo>
                    <a:lnTo>
                      <a:pt x="3173" y="700"/>
                    </a:lnTo>
                    <a:lnTo>
                      <a:pt x="3251" y="756"/>
                    </a:lnTo>
                    <a:lnTo>
                      <a:pt x="3316" y="806"/>
                    </a:lnTo>
                    <a:lnTo>
                      <a:pt x="3388" y="870"/>
                    </a:lnTo>
                    <a:lnTo>
                      <a:pt x="3458" y="932"/>
                    </a:lnTo>
                    <a:lnTo>
                      <a:pt x="3513" y="995"/>
                    </a:lnTo>
                    <a:lnTo>
                      <a:pt x="3591" y="1113"/>
                    </a:lnTo>
                    <a:lnTo>
                      <a:pt x="3639" y="1215"/>
                    </a:lnTo>
                    <a:lnTo>
                      <a:pt x="3650" y="1258"/>
                    </a:lnTo>
                    <a:lnTo>
                      <a:pt x="3672" y="1344"/>
                    </a:lnTo>
                    <a:lnTo>
                      <a:pt x="3672" y="1413"/>
                    </a:lnTo>
                    <a:lnTo>
                      <a:pt x="3672" y="1689"/>
                    </a:lnTo>
                    <a:lnTo>
                      <a:pt x="3519" y="1557"/>
                    </a:lnTo>
                    <a:lnTo>
                      <a:pt x="2785" y="950"/>
                    </a:lnTo>
                    <a:lnTo>
                      <a:pt x="1723" y="631"/>
                    </a:lnTo>
                    <a:lnTo>
                      <a:pt x="626" y="462"/>
                    </a:lnTo>
                    <a:lnTo>
                      <a:pt x="0" y="4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3"/>
              <p:cNvSpPr/>
              <p:nvPr/>
            </p:nvSpPr>
            <p:spPr>
              <a:xfrm>
                <a:off x="5740560" y="4464000"/>
                <a:ext cx="992160" cy="277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24"/>
              <p:cNvSpPr/>
              <p:nvPr/>
            </p:nvSpPr>
            <p:spPr>
              <a:xfrm>
                <a:off x="5737320" y="4741920"/>
                <a:ext cx="990360" cy="25992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1247" h="330">
                    <a:moveTo>
                      <a:pt x="0" y="0"/>
                    </a:moveTo>
                    <a:lnTo>
                      <a:pt x="1247" y="0"/>
                    </a:lnTo>
                    <a:lnTo>
                      <a:pt x="624" y="3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25"/>
              <p:cNvSpPr/>
              <p:nvPr/>
            </p:nvSpPr>
            <p:spPr>
              <a:xfrm>
                <a:off x="3567240" y="3710880"/>
                <a:ext cx="2912760" cy="1031040"/>
              </a:xfrm>
              <a:custGeom>
                <a:avLst/>
                <a:gdLst>
                  <a:gd name="textAreaLeft" fmla="*/ 0 w 2912760"/>
                  <a:gd name="textAreaRight" fmla="*/ 2913120 w 2912760"/>
                  <a:gd name="textAreaTop" fmla="*/ 0 h 1031040"/>
                  <a:gd name="textAreaBottom" fmla="*/ 1031400 h 1031040"/>
                </a:gdLst>
                <a:ahLst/>
                <a:rect l="textAreaLeft" t="textAreaTop" r="textAreaRight" b="textAreaBottom"/>
                <a:pathLst>
                  <a:path w="3668" h="1300">
                    <a:moveTo>
                      <a:pt x="0" y="206"/>
                    </a:moveTo>
                    <a:lnTo>
                      <a:pt x="96" y="206"/>
                    </a:lnTo>
                    <a:lnTo>
                      <a:pt x="217" y="207"/>
                    </a:lnTo>
                    <a:lnTo>
                      <a:pt x="315" y="210"/>
                    </a:lnTo>
                    <a:lnTo>
                      <a:pt x="414" y="214"/>
                    </a:lnTo>
                    <a:lnTo>
                      <a:pt x="523" y="220"/>
                    </a:lnTo>
                    <a:lnTo>
                      <a:pt x="622" y="227"/>
                    </a:lnTo>
                    <a:lnTo>
                      <a:pt x="735" y="235"/>
                    </a:lnTo>
                    <a:lnTo>
                      <a:pt x="826" y="244"/>
                    </a:lnTo>
                    <a:lnTo>
                      <a:pt x="942" y="256"/>
                    </a:lnTo>
                    <a:lnTo>
                      <a:pt x="1053" y="270"/>
                    </a:lnTo>
                    <a:lnTo>
                      <a:pt x="1173" y="285"/>
                    </a:lnTo>
                    <a:lnTo>
                      <a:pt x="1274" y="302"/>
                    </a:lnTo>
                    <a:lnTo>
                      <a:pt x="1367" y="316"/>
                    </a:lnTo>
                    <a:lnTo>
                      <a:pt x="1473" y="334"/>
                    </a:lnTo>
                    <a:lnTo>
                      <a:pt x="1627" y="364"/>
                    </a:lnTo>
                    <a:lnTo>
                      <a:pt x="1767" y="398"/>
                    </a:lnTo>
                    <a:lnTo>
                      <a:pt x="1935" y="442"/>
                    </a:lnTo>
                    <a:lnTo>
                      <a:pt x="2045" y="476"/>
                    </a:lnTo>
                    <a:lnTo>
                      <a:pt x="2116" y="499"/>
                    </a:lnTo>
                    <a:lnTo>
                      <a:pt x="2253" y="547"/>
                    </a:lnTo>
                    <a:lnTo>
                      <a:pt x="2382" y="599"/>
                    </a:lnTo>
                    <a:lnTo>
                      <a:pt x="2478" y="641"/>
                    </a:lnTo>
                    <a:lnTo>
                      <a:pt x="2551" y="676"/>
                    </a:lnTo>
                    <a:lnTo>
                      <a:pt x="2631" y="720"/>
                    </a:lnTo>
                    <a:lnTo>
                      <a:pt x="2699" y="762"/>
                    </a:lnTo>
                    <a:lnTo>
                      <a:pt x="2756" y="800"/>
                    </a:lnTo>
                    <a:lnTo>
                      <a:pt x="2820" y="848"/>
                    </a:lnTo>
                    <a:lnTo>
                      <a:pt x="2876" y="894"/>
                    </a:lnTo>
                    <a:lnTo>
                      <a:pt x="2923" y="940"/>
                    </a:lnTo>
                    <a:lnTo>
                      <a:pt x="2966" y="982"/>
                    </a:lnTo>
                    <a:lnTo>
                      <a:pt x="2998" y="1023"/>
                    </a:lnTo>
                    <a:lnTo>
                      <a:pt x="3024" y="1061"/>
                    </a:lnTo>
                    <a:lnTo>
                      <a:pt x="3046" y="1103"/>
                    </a:lnTo>
                    <a:lnTo>
                      <a:pt x="3064" y="1140"/>
                    </a:lnTo>
                    <a:lnTo>
                      <a:pt x="3075" y="1174"/>
                    </a:lnTo>
                    <a:lnTo>
                      <a:pt x="3088" y="1218"/>
                    </a:lnTo>
                    <a:lnTo>
                      <a:pt x="3093" y="1258"/>
                    </a:lnTo>
                    <a:lnTo>
                      <a:pt x="3095" y="1300"/>
                    </a:lnTo>
                    <a:lnTo>
                      <a:pt x="3668" y="1300"/>
                    </a:lnTo>
                    <a:lnTo>
                      <a:pt x="3663" y="1233"/>
                    </a:lnTo>
                    <a:lnTo>
                      <a:pt x="3652" y="1176"/>
                    </a:lnTo>
                    <a:lnTo>
                      <a:pt x="3638" y="1128"/>
                    </a:lnTo>
                    <a:lnTo>
                      <a:pt x="3620" y="1089"/>
                    </a:lnTo>
                    <a:lnTo>
                      <a:pt x="3599" y="1047"/>
                    </a:lnTo>
                    <a:lnTo>
                      <a:pt x="3570" y="1001"/>
                    </a:lnTo>
                    <a:lnTo>
                      <a:pt x="3544" y="965"/>
                    </a:lnTo>
                    <a:lnTo>
                      <a:pt x="3502" y="915"/>
                    </a:lnTo>
                    <a:lnTo>
                      <a:pt x="3461" y="871"/>
                    </a:lnTo>
                    <a:lnTo>
                      <a:pt x="3417" y="827"/>
                    </a:lnTo>
                    <a:lnTo>
                      <a:pt x="3365" y="783"/>
                    </a:lnTo>
                    <a:lnTo>
                      <a:pt x="3320" y="747"/>
                    </a:lnTo>
                    <a:lnTo>
                      <a:pt x="3245" y="695"/>
                    </a:lnTo>
                    <a:lnTo>
                      <a:pt x="3172" y="647"/>
                    </a:lnTo>
                    <a:lnTo>
                      <a:pt x="3063" y="587"/>
                    </a:lnTo>
                    <a:lnTo>
                      <a:pt x="2955" y="533"/>
                    </a:lnTo>
                    <a:lnTo>
                      <a:pt x="2846" y="483"/>
                    </a:lnTo>
                    <a:lnTo>
                      <a:pt x="2747" y="441"/>
                    </a:lnTo>
                    <a:lnTo>
                      <a:pt x="2609" y="388"/>
                    </a:lnTo>
                    <a:lnTo>
                      <a:pt x="2450" y="334"/>
                    </a:lnTo>
                    <a:lnTo>
                      <a:pt x="2291" y="289"/>
                    </a:lnTo>
                    <a:lnTo>
                      <a:pt x="2147" y="252"/>
                    </a:lnTo>
                    <a:lnTo>
                      <a:pt x="2048" y="227"/>
                    </a:lnTo>
                    <a:lnTo>
                      <a:pt x="1926" y="198"/>
                    </a:lnTo>
                    <a:lnTo>
                      <a:pt x="1837" y="178"/>
                    </a:lnTo>
                    <a:lnTo>
                      <a:pt x="1736" y="160"/>
                    </a:lnTo>
                    <a:lnTo>
                      <a:pt x="1634" y="141"/>
                    </a:lnTo>
                    <a:lnTo>
                      <a:pt x="1535" y="124"/>
                    </a:lnTo>
                    <a:lnTo>
                      <a:pt x="1404" y="103"/>
                    </a:lnTo>
                    <a:lnTo>
                      <a:pt x="1289" y="89"/>
                    </a:lnTo>
                    <a:lnTo>
                      <a:pt x="1165" y="73"/>
                    </a:lnTo>
                    <a:lnTo>
                      <a:pt x="1017" y="56"/>
                    </a:lnTo>
                    <a:lnTo>
                      <a:pt x="869" y="41"/>
                    </a:lnTo>
                    <a:lnTo>
                      <a:pt x="750" y="32"/>
                    </a:lnTo>
                    <a:lnTo>
                      <a:pt x="613" y="21"/>
                    </a:lnTo>
                    <a:lnTo>
                      <a:pt x="468" y="16"/>
                    </a:lnTo>
                    <a:lnTo>
                      <a:pt x="273" y="7"/>
                    </a:lnTo>
                    <a:lnTo>
                      <a:pt x="96" y="4"/>
                    </a:lnTo>
                    <a:lnTo>
                      <a:pt x="0" y="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26"/>
              <p:cNvSpPr/>
              <p:nvPr/>
            </p:nvSpPr>
            <p:spPr>
              <a:xfrm>
                <a:off x="3565440" y="2390760"/>
                <a:ext cx="2916360" cy="1338480"/>
              </a:xfrm>
              <a:custGeom>
                <a:avLst/>
                <a:gdLst>
                  <a:gd name="textAreaLeft" fmla="*/ 0 w 2916360"/>
                  <a:gd name="textAreaRight" fmla="*/ 2916720 w 2916360"/>
                  <a:gd name="textAreaTop" fmla="*/ 0 h 1338480"/>
                  <a:gd name="textAreaBottom" fmla="*/ 1338840 h 1338480"/>
                </a:gdLst>
                <a:ahLst/>
                <a:rect l="textAreaLeft" t="textAreaTop" r="textAreaRight" b="textAreaBottom"/>
                <a:pathLst>
                  <a:path w="3674" h="1689">
                    <a:moveTo>
                      <a:pt x="0" y="1689"/>
                    </a:moveTo>
                    <a:lnTo>
                      <a:pt x="153" y="1689"/>
                    </a:lnTo>
                    <a:lnTo>
                      <a:pt x="286" y="1685"/>
                    </a:lnTo>
                    <a:lnTo>
                      <a:pt x="430" y="1678"/>
                    </a:lnTo>
                    <a:lnTo>
                      <a:pt x="576" y="1673"/>
                    </a:lnTo>
                    <a:lnTo>
                      <a:pt x="735" y="1660"/>
                    </a:lnTo>
                    <a:lnTo>
                      <a:pt x="887" y="1645"/>
                    </a:lnTo>
                    <a:lnTo>
                      <a:pt x="1023" y="1632"/>
                    </a:lnTo>
                    <a:lnTo>
                      <a:pt x="1176" y="1614"/>
                    </a:lnTo>
                    <a:lnTo>
                      <a:pt x="1313" y="1595"/>
                    </a:lnTo>
                    <a:lnTo>
                      <a:pt x="1440" y="1577"/>
                    </a:lnTo>
                    <a:lnTo>
                      <a:pt x="1588" y="1552"/>
                    </a:lnTo>
                    <a:lnTo>
                      <a:pt x="1762" y="1514"/>
                    </a:lnTo>
                    <a:lnTo>
                      <a:pt x="1917" y="1482"/>
                    </a:lnTo>
                    <a:lnTo>
                      <a:pt x="2086" y="1439"/>
                    </a:lnTo>
                    <a:lnTo>
                      <a:pt x="2261" y="1389"/>
                    </a:lnTo>
                    <a:lnTo>
                      <a:pt x="2426" y="1339"/>
                    </a:lnTo>
                    <a:lnTo>
                      <a:pt x="2557" y="1289"/>
                    </a:lnTo>
                    <a:lnTo>
                      <a:pt x="2721" y="1226"/>
                    </a:lnTo>
                    <a:lnTo>
                      <a:pt x="2857" y="1164"/>
                    </a:lnTo>
                    <a:lnTo>
                      <a:pt x="2977" y="1108"/>
                    </a:lnTo>
                    <a:lnTo>
                      <a:pt x="3077" y="1046"/>
                    </a:lnTo>
                    <a:lnTo>
                      <a:pt x="3175" y="989"/>
                    </a:lnTo>
                    <a:lnTo>
                      <a:pt x="3251" y="933"/>
                    </a:lnTo>
                    <a:lnTo>
                      <a:pt x="3317" y="883"/>
                    </a:lnTo>
                    <a:lnTo>
                      <a:pt x="3389" y="819"/>
                    </a:lnTo>
                    <a:lnTo>
                      <a:pt x="3460" y="756"/>
                    </a:lnTo>
                    <a:lnTo>
                      <a:pt x="3515" y="694"/>
                    </a:lnTo>
                    <a:lnTo>
                      <a:pt x="3591" y="576"/>
                    </a:lnTo>
                    <a:lnTo>
                      <a:pt x="3641" y="474"/>
                    </a:lnTo>
                    <a:lnTo>
                      <a:pt x="3652" y="431"/>
                    </a:lnTo>
                    <a:lnTo>
                      <a:pt x="3674" y="345"/>
                    </a:lnTo>
                    <a:lnTo>
                      <a:pt x="3674" y="275"/>
                    </a:lnTo>
                    <a:lnTo>
                      <a:pt x="3674" y="0"/>
                    </a:lnTo>
                    <a:lnTo>
                      <a:pt x="3520" y="132"/>
                    </a:lnTo>
                    <a:lnTo>
                      <a:pt x="2787" y="738"/>
                    </a:lnTo>
                    <a:lnTo>
                      <a:pt x="1725" y="1058"/>
                    </a:lnTo>
                    <a:lnTo>
                      <a:pt x="627" y="1226"/>
                    </a:lnTo>
                    <a:lnTo>
                      <a:pt x="0" y="1264"/>
                    </a:lnTo>
                    <a:lnTo>
                      <a:pt x="0" y="168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27"/>
              <p:cNvSpPr/>
              <p:nvPr/>
            </p:nvSpPr>
            <p:spPr>
              <a:xfrm>
                <a:off x="5740560" y="2393640"/>
                <a:ext cx="988920" cy="279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28"/>
              <p:cNvSpPr/>
              <p:nvPr/>
            </p:nvSpPr>
            <p:spPr>
              <a:xfrm>
                <a:off x="5737320" y="2133720"/>
                <a:ext cx="988920" cy="259920"/>
              </a:xfrm>
              <a:custGeom>
                <a:avLst/>
                <a:gdLst>
                  <a:gd name="textAreaLeft" fmla="*/ 0 w 988920"/>
                  <a:gd name="textAreaRight" fmla="*/ 988920 w 98892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1246" h="330">
                    <a:moveTo>
                      <a:pt x="0" y="330"/>
                    </a:moveTo>
                    <a:lnTo>
                      <a:pt x="1246" y="330"/>
                    </a:lnTo>
                    <a:lnTo>
                      <a:pt x="622" y="0"/>
                    </a:lnTo>
                    <a:lnTo>
                      <a:pt x="0" y="33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9"/>
              <p:cNvSpPr/>
              <p:nvPr/>
            </p:nvSpPr>
            <p:spPr>
              <a:xfrm>
                <a:off x="3565440" y="2393640"/>
                <a:ext cx="2913120" cy="1031400"/>
              </a:xfrm>
              <a:custGeom>
                <a:avLst/>
                <a:gdLst>
                  <a:gd name="textAreaLeft" fmla="*/ 0 w 2913120"/>
                  <a:gd name="textAreaRight" fmla="*/ 2913480 w 2913120"/>
                  <a:gd name="textAreaTop" fmla="*/ 0 h 1031400"/>
                  <a:gd name="textAreaBottom" fmla="*/ 1031400 h 1031400"/>
                </a:gdLst>
                <a:ahLst/>
                <a:rect l="textAreaLeft" t="textAreaTop" r="textAreaRight" b="textAreaBottom"/>
                <a:pathLst>
                  <a:path w="3670" h="1300">
                    <a:moveTo>
                      <a:pt x="3" y="1097"/>
                    </a:moveTo>
                    <a:lnTo>
                      <a:pt x="98" y="1094"/>
                    </a:lnTo>
                    <a:lnTo>
                      <a:pt x="218" y="1092"/>
                    </a:lnTo>
                    <a:lnTo>
                      <a:pt x="316" y="1090"/>
                    </a:lnTo>
                    <a:lnTo>
                      <a:pt x="415" y="1085"/>
                    </a:lnTo>
                    <a:lnTo>
                      <a:pt x="525" y="1080"/>
                    </a:lnTo>
                    <a:lnTo>
                      <a:pt x="623" y="1073"/>
                    </a:lnTo>
                    <a:lnTo>
                      <a:pt x="736" y="1065"/>
                    </a:lnTo>
                    <a:lnTo>
                      <a:pt x="828" y="1056"/>
                    </a:lnTo>
                    <a:lnTo>
                      <a:pt x="943" y="1044"/>
                    </a:lnTo>
                    <a:lnTo>
                      <a:pt x="1055" y="1030"/>
                    </a:lnTo>
                    <a:lnTo>
                      <a:pt x="1175" y="1015"/>
                    </a:lnTo>
                    <a:lnTo>
                      <a:pt x="1276" y="998"/>
                    </a:lnTo>
                    <a:lnTo>
                      <a:pt x="1368" y="984"/>
                    </a:lnTo>
                    <a:lnTo>
                      <a:pt x="1475" y="966"/>
                    </a:lnTo>
                    <a:lnTo>
                      <a:pt x="1628" y="935"/>
                    </a:lnTo>
                    <a:lnTo>
                      <a:pt x="1768" y="902"/>
                    </a:lnTo>
                    <a:lnTo>
                      <a:pt x="1936" y="857"/>
                    </a:lnTo>
                    <a:lnTo>
                      <a:pt x="2046" y="824"/>
                    </a:lnTo>
                    <a:lnTo>
                      <a:pt x="2117" y="800"/>
                    </a:lnTo>
                    <a:lnTo>
                      <a:pt x="2254" y="753"/>
                    </a:lnTo>
                    <a:lnTo>
                      <a:pt x="2384" y="700"/>
                    </a:lnTo>
                    <a:lnTo>
                      <a:pt x="2478" y="659"/>
                    </a:lnTo>
                    <a:lnTo>
                      <a:pt x="2551" y="624"/>
                    </a:lnTo>
                    <a:lnTo>
                      <a:pt x="2633" y="579"/>
                    </a:lnTo>
                    <a:lnTo>
                      <a:pt x="2699" y="538"/>
                    </a:lnTo>
                    <a:lnTo>
                      <a:pt x="2756" y="500"/>
                    </a:lnTo>
                    <a:lnTo>
                      <a:pt x="2821" y="452"/>
                    </a:lnTo>
                    <a:lnTo>
                      <a:pt x="2878" y="406"/>
                    </a:lnTo>
                    <a:lnTo>
                      <a:pt x="2925" y="360"/>
                    </a:lnTo>
                    <a:lnTo>
                      <a:pt x="2966" y="318"/>
                    </a:lnTo>
                    <a:lnTo>
                      <a:pt x="3000" y="276"/>
                    </a:lnTo>
                    <a:lnTo>
                      <a:pt x="3026" y="239"/>
                    </a:lnTo>
                    <a:lnTo>
                      <a:pt x="3048" y="197"/>
                    </a:lnTo>
                    <a:lnTo>
                      <a:pt x="3066" y="160"/>
                    </a:lnTo>
                    <a:lnTo>
                      <a:pt x="3077" y="126"/>
                    </a:lnTo>
                    <a:lnTo>
                      <a:pt x="3089" y="82"/>
                    </a:lnTo>
                    <a:lnTo>
                      <a:pt x="3095" y="41"/>
                    </a:lnTo>
                    <a:lnTo>
                      <a:pt x="3096" y="0"/>
                    </a:lnTo>
                    <a:lnTo>
                      <a:pt x="3670" y="0"/>
                    </a:lnTo>
                    <a:lnTo>
                      <a:pt x="3664" y="66"/>
                    </a:lnTo>
                    <a:lnTo>
                      <a:pt x="3653" y="123"/>
                    </a:lnTo>
                    <a:lnTo>
                      <a:pt x="3638" y="172"/>
                    </a:lnTo>
                    <a:lnTo>
                      <a:pt x="3620" y="211"/>
                    </a:lnTo>
                    <a:lnTo>
                      <a:pt x="3601" y="253"/>
                    </a:lnTo>
                    <a:lnTo>
                      <a:pt x="3571" y="299"/>
                    </a:lnTo>
                    <a:lnTo>
                      <a:pt x="3545" y="335"/>
                    </a:lnTo>
                    <a:lnTo>
                      <a:pt x="3504" y="385"/>
                    </a:lnTo>
                    <a:lnTo>
                      <a:pt x="3461" y="429"/>
                    </a:lnTo>
                    <a:lnTo>
                      <a:pt x="3418" y="472"/>
                    </a:lnTo>
                    <a:lnTo>
                      <a:pt x="3367" y="517"/>
                    </a:lnTo>
                    <a:lnTo>
                      <a:pt x="3321" y="553"/>
                    </a:lnTo>
                    <a:lnTo>
                      <a:pt x="3247" y="604"/>
                    </a:lnTo>
                    <a:lnTo>
                      <a:pt x="3173" y="653"/>
                    </a:lnTo>
                    <a:lnTo>
                      <a:pt x="3063" y="713"/>
                    </a:lnTo>
                    <a:lnTo>
                      <a:pt x="2955" y="767"/>
                    </a:lnTo>
                    <a:lnTo>
                      <a:pt x="2846" y="817"/>
                    </a:lnTo>
                    <a:lnTo>
                      <a:pt x="2749" y="859"/>
                    </a:lnTo>
                    <a:lnTo>
                      <a:pt x="2611" y="912"/>
                    </a:lnTo>
                    <a:lnTo>
                      <a:pt x="2452" y="966"/>
                    </a:lnTo>
                    <a:lnTo>
                      <a:pt x="2293" y="1010"/>
                    </a:lnTo>
                    <a:lnTo>
                      <a:pt x="2148" y="1048"/>
                    </a:lnTo>
                    <a:lnTo>
                      <a:pt x="2050" y="1073"/>
                    </a:lnTo>
                    <a:lnTo>
                      <a:pt x="1927" y="1102"/>
                    </a:lnTo>
                    <a:lnTo>
                      <a:pt x="1838" y="1122"/>
                    </a:lnTo>
                    <a:lnTo>
                      <a:pt x="1737" y="1140"/>
                    </a:lnTo>
                    <a:lnTo>
                      <a:pt x="1635" y="1159"/>
                    </a:lnTo>
                    <a:lnTo>
                      <a:pt x="1537" y="1176"/>
                    </a:lnTo>
                    <a:lnTo>
                      <a:pt x="1406" y="1197"/>
                    </a:lnTo>
                    <a:lnTo>
                      <a:pt x="1290" y="1211"/>
                    </a:lnTo>
                    <a:lnTo>
                      <a:pt x="1165" y="1227"/>
                    </a:lnTo>
                    <a:lnTo>
                      <a:pt x="1019" y="1244"/>
                    </a:lnTo>
                    <a:lnTo>
                      <a:pt x="869" y="1259"/>
                    </a:lnTo>
                    <a:lnTo>
                      <a:pt x="750" y="1268"/>
                    </a:lnTo>
                    <a:lnTo>
                      <a:pt x="614" y="1279"/>
                    </a:lnTo>
                    <a:lnTo>
                      <a:pt x="470" y="1284"/>
                    </a:lnTo>
                    <a:lnTo>
                      <a:pt x="275" y="1293"/>
                    </a:lnTo>
                    <a:lnTo>
                      <a:pt x="98" y="1295"/>
                    </a:lnTo>
                    <a:lnTo>
                      <a:pt x="0" y="1300"/>
                    </a:lnTo>
                    <a:lnTo>
                      <a:pt x="3" y="1097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30"/>
              <p:cNvGrpSpPr/>
              <p:nvPr/>
            </p:nvGrpSpPr>
            <p:grpSpPr>
              <a:xfrm>
                <a:off x="3568680" y="2972880"/>
                <a:ext cx="4102200" cy="1191240"/>
                <a:chOff x="3568680" y="2972880"/>
                <a:chExt cx="4102200" cy="1191240"/>
              </a:xfrm>
            </p:grpSpPr>
            <p:sp>
              <p:nvSpPr>
                <p:cNvPr id="143" name="Freeform 31"/>
                <p:cNvSpPr/>
                <p:nvPr/>
              </p:nvSpPr>
              <p:spPr>
                <a:xfrm>
                  <a:off x="7116840" y="2972880"/>
                  <a:ext cx="136440" cy="119124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1191240"/>
                    <a:gd name="textAreaBottom" fmla="*/ 1191600 h 1191240"/>
                  </a:gdLst>
                  <a:ahLst/>
                  <a:rect l="textAreaLeft" t="textAreaTop" r="textAreaRight" b="textAreaBottom"/>
                  <a:pathLst>
                    <a:path w="174" h="1501">
                      <a:moveTo>
                        <a:pt x="174" y="0"/>
                      </a:moveTo>
                      <a:lnTo>
                        <a:pt x="174" y="1501"/>
                      </a:lnTo>
                      <a:lnTo>
                        <a:pt x="0" y="1101"/>
                      </a:lnTo>
                      <a:lnTo>
                        <a:pt x="0" y="399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2"/>
                <p:cNvSpPr/>
                <p:nvPr/>
              </p:nvSpPr>
              <p:spPr>
                <a:xfrm>
                  <a:off x="3568680" y="2972880"/>
                  <a:ext cx="4102200" cy="1191240"/>
                </a:xfrm>
                <a:custGeom>
                  <a:avLst/>
                  <a:gdLst>
                    <a:gd name="textAreaLeft" fmla="*/ 0 w 4102200"/>
                    <a:gd name="textAreaRight" fmla="*/ 4102560 w 4102200"/>
                    <a:gd name="textAreaTop" fmla="*/ 0 h 1191240"/>
                    <a:gd name="textAreaBottom" fmla="*/ 1191600 h 1191240"/>
                  </a:gdLst>
                  <a:ahLst/>
                  <a:rect l="textAreaLeft" t="textAreaTop" r="textAreaRight" b="textAreaBottom"/>
                  <a:pathLst>
                    <a:path w="5168" h="1501">
                      <a:moveTo>
                        <a:pt x="4643" y="499"/>
                      </a:moveTo>
                      <a:lnTo>
                        <a:pt x="4643" y="0"/>
                      </a:lnTo>
                      <a:lnTo>
                        <a:pt x="5168" y="800"/>
                      </a:lnTo>
                      <a:lnTo>
                        <a:pt x="4643" y="1501"/>
                      </a:lnTo>
                      <a:lnTo>
                        <a:pt x="4643" y="1001"/>
                      </a:lnTo>
                      <a:lnTo>
                        <a:pt x="0" y="1001"/>
                      </a:lnTo>
                      <a:lnTo>
                        <a:pt x="0" y="499"/>
                      </a:lnTo>
                      <a:lnTo>
                        <a:pt x="4643" y="49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ePCT Overview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ePCT is WIPO‘s online portal that provides PCT services for both applicants and Off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122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2011: ePCT first used by small pilot group of applicants for private file inspection of IAs e-filed at RO/IB with WIPO certifica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122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2012: additional features, such as interactive online ‘Actions’ enabling applicants to interact with their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122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2013 Q2: Launch of ePCT-Filing in production for closed pilot group at RO/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2013 Q4: Extend ePCT-Filing to other ROs with existing e-filing serv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122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2014: Host e-filing for other ROs without e-filing server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899b"/>
                </a:solidFill>
                <a:latin typeface="Arial"/>
              </a:rPr>
              <a:t>ePCT – Basic Featur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ecure management of access rights (eOwner, eEditor, eViewer), including before pub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View content (documents + most up-to-date bib data), processing status, publication front page previe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pload electronic docu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ile new international applications (IB’s validation engin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nline Actions: interaction with your file, e.g. Rule 92bis requests, request to withdraw IA, prepare Chapter II Demand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imeline and reminder notifica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istory of actions at both IA and user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dvanced search/fil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899b"/>
                </a:solidFill>
                <a:latin typeface="Arial"/>
              </a:rPr>
              <a:t>ePCT – Advantag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eduction of mailing and processing delays (potentially more A1 publications)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ata used directly without transcription reduces risk of errors (potentially less republication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troduces entirely new information, eg. Third party observ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creasing exchange of more interactive machine-readable information instead of paper/im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-mail warnings for approaching deadlines, e.g., 30 month time limit expires in 1 mon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CT timeline feature - visual aid to monitor important PCT tim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eal-time look-up in DA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ePCT-Filing (currently in pilot phase)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data is always the latest – no updates to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all data checks conducted by IB downstream to be made at time of preparation of the IA fo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tential problems in PDF files are detected (such as color and greyscale drawings) - applicant offered a preview of how the documents will be rendered fo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rson creating a new international application can share access to it for viewing or editing by other users before it is fi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ePCT for Offic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functionality available for receiving Offices and International Autho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oad electronic documents directly into the IB’s process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Record Copies of international applications filed in PCT-EASY or pap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Priority documents to the 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‘Actions’ - submit updates of bibliographic data relating to events in the life cycle of an international application, e.g., withdraw IA, withdraw priority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899b"/>
                </a:solidFill>
                <a:latin typeface="Arial"/>
              </a:rPr>
              <a:t>Other PCT updates</a:t>
            </a:r>
            <a:endParaRPr b="0" lang="en-US" sz="3600" spc="-1" strike="noStrike">
              <a:solidFill>
                <a:srgbClr val="70899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opinion of the ISA will be made publicly available at time of international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into English available at 30 months when IPRP1 is is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ing approval by the PCT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al arrangements under consultation (may apply for international applications filed on or after 1 July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21:33Z</dcterms:created>
  <dc:creator>Bardini</dc:creator>
  <dc:description/>
  <dc:language>en-US</dc:language>
  <cp:lastModifiedBy>AMMANN Sandrine</cp:lastModifiedBy>
  <dcterms:modified xsi:type="dcterms:W3CDTF">2013-06-20T07:39:50Z</dcterms:modified>
  <cp:revision>53</cp:revision>
  <dc:subject/>
  <dc:title>Slide 1</dc:title>
</cp:coreProperties>
</file>