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3.png" ContentType="image/png"/>
  <Override PartName="/ppt/media/image17.jpeg" ContentType="image/jpeg"/>
  <Override PartName="/ppt/media/image22.jpeg" ContentType="image/jpeg"/>
  <Override PartName="/ppt/media/image15.wmf" ContentType="image/x-wmf"/>
  <Override PartName="/ppt/media/image1.jpeg" ContentType="image/jpeg"/>
  <Override PartName="/ppt/media/image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312-78B1-45D0-9746-1E1CB364B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57DC-64E5-42AE-8BB5-F27323E3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2360" y="91116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06480" y="473076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7CA-11F9-41E0-8C75-AC8FE551AB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9D14-A237-4AA0-B865-E75F2766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BD18-2832-4D99-AC68-76AD7D689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D5EB-E03E-41DC-AD34-44D462704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8475-5BB2-4960-89A8-10B326037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D044-F1BB-4451-88F3-EB7066A6B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4F52-A493-4A76-A843-527B255CC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ABC4-1DB0-46D5-8DC0-4DFA1D27C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DF1C-BDAC-47EB-8359-6C6896305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39D9-8057-44E1-95E2-4E3DA29A1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4541-C30E-4726-8A63-C67F4E415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764C-39A8-4ABB-90DE-FEE7840C1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1E0D-F325-4239-93C4-DE5476CB9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AD94-798A-4640-BDF0-49F7BBEF3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BE80-11B8-4716-B4B0-2D191AC5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mailto:claus.matthes@wipo.int" TargetMode="External"/><Relationship Id="rId2" Type="http://schemas.openxmlformats.org/officeDocument/2006/relationships/hyperlink" Target="http://www.wipo.int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149480" y="3428640"/>
            <a:ext cx="619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ent Cooperation Treaty (P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roduction and Future Develop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Oslo, October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laus Mat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irector, PCT Business Development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62E7-E439-4866-8667-BF441063D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6148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As are the following 18 offi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hile (not yet oper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9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 (October 15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1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2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4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-28584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1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ic Patent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7280" y="189000"/>
            <a:ext cx="83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PCT International Searching 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F282-BD37-43BA-934F-9E666E1C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or art for international search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37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which has been made available to the public,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where in the wor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eans of written disclosu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capable of being of assistance in determining that the claimed invention is or is not new and that it does or does not involve an inventive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spcBef>
                <a:spcPts val="624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the making available to the  public occur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or to the international filing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T Minimum Documentation (Rule 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AE3-C01D-45ED-A6CF-4F24FAADA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962600"/>
          </a:xfrm>
          <a:prstGeom prst="rect">
            <a:avLst/>
          </a:prstGeom>
          <a:ln w="0">
            <a:noFill/>
          </a:ln>
        </p:spPr>
      </p:pic>
      <p:sp>
        <p:nvSpPr>
          <p:cNvPr id="287" name="Oval 3"/>
          <p:cNvSpPr/>
          <p:nvPr/>
        </p:nvSpPr>
        <p:spPr>
          <a:xfrm>
            <a:off x="1676520" y="914400"/>
            <a:ext cx="4232160" cy="4724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6753240" y="914400"/>
            <a:ext cx="1552680" cy="426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457200" y="914400"/>
            <a:ext cx="1289160" cy="4724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2971800" y="5789520"/>
            <a:ext cx="257976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Documents relevant to whether or not your invention may be paten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0" y="5196240"/>
            <a:ext cx="2682720" cy="1789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Symbols indicating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which aspect of patentability 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the document cited is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 relevant to (for example, novelty, inventive step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6300000" y="5556240"/>
            <a:ext cx="239544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The claim numbers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in your application to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which the document is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rele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Example:  PCT International Search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73A2-19A6-493E-9BB8-E8757C46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Example:  PCT Written opinion of the International Searching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48800" cy="4876920"/>
          </a:xfrm>
          <a:prstGeom prst="rect">
            <a:avLst/>
          </a:prstGeom>
          <a:ln w="0">
            <a:noFill/>
          </a:ln>
        </p:spPr>
      </p:pic>
      <p:sp>
        <p:nvSpPr>
          <p:cNvPr id="297" name="Oval 4"/>
          <p:cNvSpPr/>
          <p:nvPr/>
        </p:nvSpPr>
        <p:spPr>
          <a:xfrm>
            <a:off x="3095640" y="1828800"/>
            <a:ext cx="2671920" cy="19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703440" y="3733920"/>
            <a:ext cx="7737120" cy="2209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6611760" y="5703480"/>
            <a:ext cx="2032200" cy="84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Patentability assessment</a:t>
            </a:r>
            <a:br>
              <a:rPr sz="1100"/>
            </a:b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 of cla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61960" y="5627160"/>
            <a:ext cx="2033640" cy="84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  <a:ea typeface="ヒラギノ角ゴ Pro W3"/>
              </a:rPr>
              <a:t>Reasoning supporting the assess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44AE-5732-45A1-B054-BEB576984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318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3809880" y="16765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Disclosing to world content of application in standardized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47242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7E4-2DE6-4357-81BE-A64730CB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      </a:t>
            </a: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     </a:t>
            </a: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353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4343400" y="51055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Request an additional patentability analysis on basis of amende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>
            <a:off x="5556240" y="4876920"/>
            <a:ext cx="6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808E-0745-4081-9EC7-11BD6A06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388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3"/>
          <p:cNvSpPr/>
          <p:nvPr/>
        </p:nvSpPr>
        <p:spPr>
          <a:xfrm>
            <a:off x="6172200" y="50292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Additional patentability analysis, designed to assist in national phase decision-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4"/>
          <p:cNvSpPr/>
          <p:nvPr/>
        </p:nvSpPr>
        <p:spPr>
          <a:xfrm>
            <a:off x="72388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8BB3-73E6-4052-A787-44396B43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423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7464960" y="2057400"/>
            <a:ext cx="870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7162920" y="762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Express intention and take steps to pursue to grant in various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4"/>
          <p:cNvSpPr/>
          <p:nvPr/>
        </p:nvSpPr>
        <p:spPr>
          <a:xfrm flipH="1" flipV="1">
            <a:off x="8000640" y="1600200"/>
            <a:ext cx="176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983-AF28-4C07-B521-B3CB8918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200"/>
            </a:b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1476360" y="2133720"/>
            <a:ext cx="6119640" cy="4089240"/>
            <a:chOff x="1476360" y="2133720"/>
            <a:chExt cx="6119640" cy="4089240"/>
          </a:xfrm>
        </p:grpSpPr>
        <p:sp>
          <p:nvSpPr>
            <p:cNvPr id="444" name="AutoShape 4"/>
            <p:cNvSpPr/>
            <p:nvPr/>
          </p:nvSpPr>
          <p:spPr>
            <a:xfrm>
              <a:off x="1476360" y="2133720"/>
              <a:ext cx="6112800" cy="40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5" name="Picture 5" descr=""/>
            <p:cNvPicPr/>
            <p:nvPr/>
          </p:nvPicPr>
          <p:blipFill>
            <a:blip r:embed="rId1"/>
            <a:stretch/>
          </p:blipFill>
          <p:spPr>
            <a:xfrm>
              <a:off x="1476360" y="2133720"/>
              <a:ext cx="6119640" cy="408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Picture 6" descr="pct treaty book"/>
          <p:cNvPicPr/>
          <p:nvPr/>
        </p:nvPicPr>
        <p:blipFill>
          <a:blip r:embed="rId2"/>
          <a:stretch/>
        </p:blipFill>
        <p:spPr>
          <a:xfrm>
            <a:off x="3059280" y="40464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669-F60A-4181-9E9E-4B153F59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 in 1978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449" name="Picture 3" descr="144-06"/>
          <p:cNvPicPr/>
          <p:nvPr/>
        </p:nvPicPr>
        <p:blipFill>
          <a:blip r:embed="rId1"/>
          <a:stretch/>
        </p:blipFill>
        <p:spPr>
          <a:xfrm>
            <a:off x="85680" y="1187280"/>
            <a:ext cx="9058320" cy="475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90CE-4985-48C6-97BA-06306B4E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the traditional patent system to seek multinational patent protec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3212640"/>
            <a:ext cx="896472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atent application followed within 12 months by multiple foreign applications claiming priority under Paris Conven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forma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ltiple examinations and prosecutions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lations and national fees required at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ationalization because of regional arrang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PO, EAPO, EPO, O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4784760" y="1411200"/>
            <a:ext cx="0" cy="98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723760" y="190008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361760" y="191772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472840" y="2354400"/>
            <a:ext cx="92844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cal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701680" y="1870200"/>
            <a:ext cx="10062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r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882880" y="2301840"/>
            <a:ext cx="18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784760" y="2308320"/>
            <a:ext cx="0" cy="9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4791240" y="2308320"/>
            <a:ext cx="86040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4791240" y="1887120"/>
            <a:ext cx="860400" cy="42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4791240" y="1482480"/>
            <a:ext cx="54288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4791240" y="2308320"/>
            <a:ext cx="463320" cy="79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2881440" y="221940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2003040" y="1909800"/>
            <a:ext cx="788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CT Coverage Today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451" name="Object 2"/>
          <p:cNvGraphicFramePr/>
          <p:nvPr/>
        </p:nvGraphicFramePr>
        <p:xfrm>
          <a:off x="0" y="0"/>
          <a:ext cx="10763280" cy="77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763280" cy="77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1447920" y="0"/>
          <a:ext cx="76960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7696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5" name="Group 3"/>
          <p:cNvGrpSpPr/>
          <p:nvPr/>
        </p:nvGrpSpPr>
        <p:grpSpPr>
          <a:xfrm>
            <a:off x="228600" y="914400"/>
            <a:ext cx="1125000" cy="307080"/>
            <a:chOff x="228600" y="914400"/>
            <a:chExt cx="1125000" cy="307080"/>
          </a:xfrm>
        </p:grpSpPr>
        <p:sp>
          <p:nvSpPr>
            <p:cNvPr id="456" name="Rectangle 4"/>
            <p:cNvSpPr/>
            <p:nvPr/>
          </p:nvSpPr>
          <p:spPr>
            <a:xfrm>
              <a:off x="228600" y="914400"/>
              <a:ext cx="210960" cy="28548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5"/>
            <p:cNvSpPr/>
            <p:nvPr/>
          </p:nvSpPr>
          <p:spPr>
            <a:xfrm>
              <a:off x="369000" y="914400"/>
              <a:ext cx="98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=P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6"/>
          <p:cNvSpPr/>
          <p:nvPr/>
        </p:nvSpPr>
        <p:spPr>
          <a:xfrm>
            <a:off x="33480" y="2924280"/>
            <a:ext cx="175248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b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ge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tigua and Barbu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me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tral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t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zerbaij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hrain</a:t>
            </a:r>
            <a:r>
              <a:rPr b="0" lang="en-US" sz="800" spc="-1" strike="noStrike">
                <a:solidFill>
                  <a:srgbClr val="af3737"/>
                </a:solidFill>
                <a:latin typeface="Arial"/>
                <a:ea typeface="ヒラギノ角ゴ Pro W3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rbado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lar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lgi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liz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snia and Herzegovi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swa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azi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unei Darussa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lga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rkina Fas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ero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a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al African Re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lomb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or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1353960" y="3073320"/>
            <a:ext cx="2279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sta Ric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ôte d'Ivoi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roat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b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ypr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zech Republ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mocratic People'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Kore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nmar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mi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minican Republic</a:t>
            </a:r>
            <a:r>
              <a:rPr b="0" lang="en-US" sz="800" spc="-1" strike="noStrike">
                <a:solidFill>
                  <a:srgbClr val="af3737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cu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g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l Salv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quatorial Guin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sto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nl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ance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ab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org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ha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ee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ena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atema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ine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2700360" y="3535200"/>
            <a:ext cx="1541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inea-Bissau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ondur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ungar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cela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d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dones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Iran (Islamic Republic o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(4 Oct. 20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rela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srae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tal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ap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azakhst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n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yrgyz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o People’s Dem 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tvi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soth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ber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byan Arab Jamahiri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echtenste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thu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uxembour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dagas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3995640" y="3135240"/>
            <a:ext cx="262260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aw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ay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urit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xic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ac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gol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teneg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rocc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zambiqu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ib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therland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w Zea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carag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n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pua New Guin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ilippin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2360" y="3276720"/>
            <a:ext cx="2319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o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ortug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a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Kor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Moldo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m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wa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ussian Fed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nt Luc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nt Vincent and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the Grenadin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n Ma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o Tomé e Princi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Saudi Arabia (3 Aug. 20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neg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r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ych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erra Le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gapo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lovak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love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uth Afric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pa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ri Lank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ud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waz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6372360" y="3459240"/>
            <a:ext cx="22795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. Kitts and Nev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we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witz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yrian Arab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ajikist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former Yugoslav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public of Macedo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g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inidad and Tobag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ni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rke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urkmenist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gand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krai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Arab Emir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Kingdo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80" indent="-5040">
              <a:lnSpc>
                <a:spcPct val="100000"/>
              </a:lnSpc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Republic of Tanza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80" indent="-5040">
              <a:lnSpc>
                <a:spcPct val="100000"/>
              </a:lnSpc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ted States of Americ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zbekist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et N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9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imbab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3027240" y="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ヒラギノ角ゴ Pro W3"/>
              </a:rPr>
              <a:t>148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PCT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Countries not yet in P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50920" y="692280"/>
            <a:ext cx="324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fghan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o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h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hu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ru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bo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pe Ve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jibo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it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uy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635280" y="692280"/>
            <a:ext cx="252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d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all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6300720" y="692280"/>
            <a:ext cx="2448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Su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i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or-L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v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CT Application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470" name="Object 3"/>
          <p:cNvGraphicFramePr/>
          <p:nvPr/>
        </p:nvGraphicFramePr>
        <p:xfrm>
          <a:off x="250920" y="0"/>
          <a:ext cx="8686800" cy="61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686800" cy="61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4"/>
          <p:cNvSpPr/>
          <p:nvPr/>
        </p:nvSpPr>
        <p:spPr>
          <a:xfrm>
            <a:off x="179280" y="595008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94,400 PCT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6.6%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050920" y="1916280"/>
            <a:ext cx="28814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L: +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N: +1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: +13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: +13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P: +12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3708360" y="595008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7.3% fully electro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ecasting +3.8%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142920" y="1413000"/>
            <a:ext cx="9001080" cy="39178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ends in PCT filing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Object 2"/>
          <p:cNvGraphicFramePr/>
          <p:nvPr/>
        </p:nvGraphicFramePr>
        <p:xfrm>
          <a:off x="179280" y="1052640"/>
          <a:ext cx="896472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96472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3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national applications received in 2012 by country of origin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468360" y="6165720"/>
            <a:ext cx="67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p 15 countries responsible for 92.7% of IAs filed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7740720" y="5013360"/>
            <a:ext cx="503280" cy="115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7524720" y="4869000"/>
            <a:ext cx="43200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3"/>
          <p:cNvSpPr/>
          <p:nvPr/>
        </p:nvSpPr>
        <p:spPr>
          <a:xfrm>
            <a:off x="179280" y="491652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07,400 national phase entries estimated in 2011 (+ 4.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31,800 (about 85%) of NPEs are from non-resident applicants, making PCT NPEs responsible fo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54.9% of all non-resident patent applications filed worldwide in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0" y="1395360"/>
            <a:ext cx="9144000" cy="3240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6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National phase entries—total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5546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SPTO most preferred DO for National Phase Entries; had highest growth among the IP5 Offices (+7.3%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azil (+12.6%) and India (+9.8%) had highest growth rates among top 10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769080" cy="440352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/>
          <p:cNvSpPr/>
          <p:nvPr/>
        </p:nvSpPr>
        <p:spPr>
          <a:xfrm>
            <a:off x="684360" y="-17136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National phase entries 2011—by target DO (1)</a:t>
            </a: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6769080" cy="4927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758880" y="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National phase entries 2011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y target DO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p PCT Applicant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2394000" y="1052640"/>
            <a:ext cx="511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TE Corporation—CN (3906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nasonic—JP (295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rp—JP 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uawei—CN (18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sch—DE (177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yota—JP (165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alcomm—US (13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emens—DE (12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ilips—NL (12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icsson—SE (11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G Electronics—KR (10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tsubishi Electric—JP (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C—JP (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jifilm Corporation (8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tachi—JP (74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sung Electronics—KR (68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ujitsu—JP (6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—FI (6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F—DE (64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l—US (6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189720" y="551664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(…) of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6792-3176-42FD-A03C-284D97CA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─ 1970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  simplify the procedure for obtaining patent protection in many countries, making it more efficient and economica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atent system:  makes availabl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ing tool for applic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oreign patent filings; 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tent off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kes availabl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l for effective processing of patent applications by off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CT Member States willing to exploit work done by ot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pct treaty book"/>
          <p:cNvPicPr/>
          <p:nvPr/>
        </p:nvPicPr>
        <p:blipFill>
          <a:blip r:embed="rId4"/>
          <a:stretch/>
        </p:blipFill>
        <p:spPr>
          <a:xfrm>
            <a:off x="2556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4978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p University PCT Applicant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03280" y="1197000"/>
            <a:ext cx="5977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California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vard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hns Hopkins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umbia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Texa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oul National University (K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land Stanford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king University (C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 of Florida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 Tech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rea Advanced Institute of Science and Technology (K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nell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Tokyo (J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onsei University (K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is Innovation Limited (G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singhua University (C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yoto University (J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iversity of Michig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rdue University (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04840" y="2599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p Government/Research Institution PCT Applicants 201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95280" y="1628640"/>
            <a:ext cx="8381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issariat a l’Energie Atomique et aux Energies Alternatives (Fran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aunhofer-Gesellschaft zur Forderung Der Angewandten Forschung e.v. (Germ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e National de la Recherche Scientifique (CNRS)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na Academy of Telecommunications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e of Microelectronics of Chinese Academy of Sciences (Ch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imos Berhad (Malays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 National de la Sante et de la Recherche Medicale (INSERM)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ectronics &amp; Telecommunications Research Institute of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ncy of Science, Technology and Research (Singap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sejo Superior de Investigaciones Cientificas (CSIC) (Sp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ted States of America, represented by the Secretary, Department of Health and Huma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 Institute of Advanced Industrial Science and Technology (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cil of Scientific and Industrial Research (In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rea Research Institute of BioScience and Bio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derlandse Organisatie voor Toegepast-Natuurwetenschappelijk Onderzoek Tno (Netherl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x Plank Institute (Germ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B9FF-39B5-4971-8413-0EF36151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─ 1970 to toda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00" name="Picture 4" descr="pct treaty book"/>
          <p:cNvPicPr/>
          <p:nvPr/>
        </p:nvPicPr>
        <p:blipFill>
          <a:blip r:embed="rId1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4422240" y="3198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08000" y="2035080"/>
            <a:ext cx="892800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E0A1-6E45-4241-BA7A-D35840A2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C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─ 1970 to toda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505" name="Picture 5" descr="pct treaty book"/>
          <p:cNvPicPr/>
          <p:nvPr/>
        </p:nvPicPr>
        <p:blipFill>
          <a:blip r:embed="rId1"/>
          <a:stretch/>
        </p:blipFill>
        <p:spPr>
          <a:xfrm>
            <a:off x="3924360" y="33336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9422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0D62-FCEF-41FF-9C4D-FC8F2770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200160" y="2411280"/>
            <a:ext cx="89154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postpones the major costs associated with internationalizing a patent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provides a strong basis for patenting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harmonizes formal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tects applicant from certain inadvertent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evolves to meet use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. is used by the world’s major corporations, universities and research institutions when they seek international patent protectio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255600" y="849960"/>
            <a:ext cx="86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PCT, as the cornerstone of the international patent system, provides a worldwide system for simplified filing and processing of patent applications,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964160" y="266760"/>
            <a:ext cx="53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Certain PCT 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4146-BF09-4122-A513-6BC6B8E0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Challeng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86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ing the quality of PCT international phase work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rust between patent offices, so that duplicative international phase and national phase processing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uage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3% of applications filed in Chinese, Japanese and Kor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developing countries benefit from the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 countries responsible for 92.1% of IAs published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PCT accessible to applicants of all types from all Contracting States (for example, S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PCT users stay abreast of new development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805-D0D7-43B6-9E05-D23640E1A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he PCT</a:t>
            </a:r>
            <a:br>
              <a:rPr sz="3200"/>
            </a:b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─ 1970 to today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extremely successful as fil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of formal and procedural requirements (beyond P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ational and regiona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tent Law Treaty (P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pct treaty book"/>
          <p:cNvPicPr/>
          <p:nvPr/>
        </p:nvPicPr>
        <p:blipFill>
          <a:blip r:embed="rId5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2FD-F5D4-4CB9-8210-E991E1ED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he PCT</a:t>
            </a:r>
            <a:br>
              <a:rPr sz="3200"/>
            </a:b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─ 1970 to today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:  PCT not as effective as work sharing tool in practice for addressing national quality of examination and (for some Offices) backlo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T al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ices to re-use earlier work (international reports) in a way which increases quality or reduces the amount of work needed to achieve same level of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extent to which this is done is a decision of the office or State concerned as a matter of policy and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pct treaty book"/>
          <p:cNvPicPr/>
          <p:nvPr/>
        </p:nvPicPr>
        <p:blipFill>
          <a:blip r:embed="rId4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943E-BF55-467E-B738-D3F21A36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The PCT</a:t>
            </a:r>
            <a:br>
              <a:rPr sz="3200"/>
            </a:b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─ Work Sharing Tool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 was:  “flying start” for offices, work should be “rather in the nature of completing, checking and criticizing than starting from scratch in complete iso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is: many Offices do start “from scratch”</a:t>
            </a: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not in complete isolation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pct treaty book"/>
          <p:cNvPicPr/>
          <p:nvPr/>
        </p:nvPicPr>
        <p:blipFill>
          <a:blip r:embed="rId4"/>
          <a:stretch/>
        </p:blipFill>
        <p:spPr>
          <a:xfrm>
            <a:off x="4716360" y="26028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515-CC38-4965-B21E-66340AAD1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: change in approach of offices vis-à-vis the PCT system, including a review of national procedures and practices and of what kind of incentives are set to use the system in a way which is beneficial to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pct treaty book"/>
          <p:cNvPicPr/>
          <p:nvPr/>
        </p:nvPicPr>
        <p:blipFill>
          <a:blip r:embed="rId2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DCE-3EE1-48F0-8655-62C3A97F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6360" y="549000"/>
            <a:ext cx="838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Basics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358640"/>
            <a:ext cx="8088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ing Tool for applic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application filed, containing, by default, the designation of all States (for every kind of protection available) and usual priority claim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effect of a regular national filing (including establishment of a priority date) in each designated State:  the international filing date is the filing date in each designat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in on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with one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t of forma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national processing until 30 months from priorit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reports improve basi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635040" y="5997600"/>
            <a:ext cx="167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620640" y="6084720"/>
            <a:ext cx="170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ct treaty book"/>
          <p:cNvPicPr/>
          <p:nvPr/>
        </p:nvPicPr>
        <p:blipFill>
          <a:blip r:embed="rId9"/>
          <a:stretch/>
        </p:blipFill>
        <p:spPr>
          <a:xfrm>
            <a:off x="3276720" y="11592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57E2-182A-4285-BC2C-59122E5F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tter the quality of the tools (reports), the better for all Contracting States:  tools allow them to deal more effectively with requirements of their national la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the national examining capacity, the bigger the importance of quality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pct treaty book"/>
          <p:cNvPicPr/>
          <p:nvPr/>
        </p:nvPicPr>
        <p:blipFill>
          <a:blip r:embed="rId4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834-6301-4B30-8F2F-06AB7110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mprove quality management systems of 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1 of PCT S&amp;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quality metrics for measuring 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of work sharing requires metrics which esta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re-use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metrics study on ISR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pct treaty book"/>
          <p:cNvPicPr/>
          <p:nvPr/>
        </p:nvPicPr>
        <p:blipFill>
          <a:blip r:embed="rId9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552-E61A-488E-B64C-38677328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llaborative search and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r sharing of final produc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project (EPO, KIPO, USP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observation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Jul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quality feedback system for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earch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ing standardization: making available of search strategies on Patent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pct treaty book"/>
          <p:cNvPicPr/>
          <p:nvPr/>
        </p:nvPicPr>
        <p:blipFill>
          <a:blip r:embed="rId11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3A4E-6F4E-48B6-A9C7-20EFBE86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and consistency of international re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tandardized clauses i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xplanations of relevance of ci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odification of PCT S&amp;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opportunity for dialogue with examiner during international preliminary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pct treaty book"/>
          <p:cNvPicPr/>
          <p:nvPr/>
        </p:nvPicPr>
        <p:blipFill>
          <a:blip r:embed="rId6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7C5-3DE6-456F-B5AF-E4450791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69992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imeliness of actions in international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centives for applicants to use system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high quality applications and early correction of defects and filing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raining for Offices, better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bly for examiners in developing countr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ccess to effective sear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ordable access to online sear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pct treaty book"/>
          <p:cNvPicPr/>
          <p:nvPr/>
        </p:nvPicPr>
        <p:blipFill>
          <a:blip r:embed="rId9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D6B0-2B3F-4CB9-AA4C-E37DE153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ccess to national search and examinatio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Offices in digitizing national patent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pct treaty book"/>
          <p:cNvPicPr/>
          <p:nvPr/>
        </p:nvPicPr>
        <p:blipFill>
          <a:blip r:embed="rId5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E545-F768-4D98-8436-C79BF17C6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4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Where do we 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ignificant progress towards implementing recommendations endorsed by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jor achievement of the process to be seen in more general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gnition of importance of PCT work product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mportance of appropriate integration of PCT work products into national patent grant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ole of PCT in improving the functioning of the international patent system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pct treaty book"/>
          <p:cNvPicPr/>
          <p:nvPr/>
        </p:nvPicPr>
        <p:blipFill>
          <a:blip r:embed="rId7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B9A8-F9AD-4399-9522-274274AE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4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ole of the PCT in effective dissemination of techn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reater understanding of concerns and needs of Contracting States in relation to the quality of international applications and PCT wor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reater understanding of capacity of Contracting States, to perform their own effective search and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reater understanding of the needs for continued technical assistance for developing and least developed countries in this re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pct treaty book"/>
          <p:cNvPicPr/>
          <p:nvPr/>
        </p:nvPicPr>
        <p:blipFill>
          <a:blip r:embed="rId5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A00-8695-49D0-9E12-B84CE327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</a:t>
            </a: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1988640"/>
            <a:ext cx="824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:  more work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c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pplicant and Office driven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haring not (yet) a universally agreed concep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pct treaty book"/>
          <p:cNvPicPr/>
          <p:nvPr/>
        </p:nvPicPr>
        <p:blipFill>
          <a:blip r:embed="rId8"/>
          <a:stretch/>
        </p:blipFill>
        <p:spPr>
          <a:xfrm>
            <a:off x="3780000" y="33336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eP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9800" y="15318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line portal that provides PCT services for both applicants and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vailable since Ma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cure and direct interaction with PCT applications maintained by the International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04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pplicants may now conduct most PCT transactions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3C37-8D76-4737-9880-1525F5666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360" y="549000"/>
            <a:ext cx="838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Basic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88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sharing tool for Off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formality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international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earch report (IS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reliminary Reports on Patentability (preliminary, non-binding opinion on novelty, inventive step (non-obviousness) and industrial appli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spcAft>
                <a:spcPts val="876"/>
              </a:spcAft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35040" y="5997600"/>
            <a:ext cx="167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620640" y="6084720"/>
            <a:ext cx="170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pct treaty book"/>
          <p:cNvPicPr/>
          <p:nvPr/>
        </p:nvPicPr>
        <p:blipFill>
          <a:blip r:embed="rId8"/>
          <a:stretch/>
        </p:blipFill>
        <p:spPr>
          <a:xfrm>
            <a:off x="3276720" y="26028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ePCT Overvi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457200" y="1197000"/>
          <a:ext cx="4038480" cy="21002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nt portal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portal for all actions and info, irrespective of responsible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entered is used directly; no more transcription err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 file - always up-to-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4648320" y="1197000"/>
          <a:ext cx="4038480" cy="21002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fi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hecks using same functions as IB; always up-to-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drafts in ePCT like a normal IA file - rights carry through to 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IA file immediately on filin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57200" y="3429000"/>
          <a:ext cx="4038480" cy="2571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5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ing Off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ccess to IB+IS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f using online tools equivalent to RO/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e-filing without need to run own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 to PCT-EDI with built-in local files and records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4648320" y="3427560"/>
          <a:ext cx="4038480" cy="2577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5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Author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ccess to IB+RO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SzPct val="10281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access to application body, including all update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 soon as approved by RO, IB, ISA or I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ctangle 27"/>
          <p:cNvSpPr/>
          <p:nvPr/>
        </p:nvSpPr>
        <p:spPr>
          <a:xfrm>
            <a:off x="381600" y="6216480"/>
            <a:ext cx="615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eature which would be dependent on level of participation by other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374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CT Training Op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CT Distance learning course content available in the 10 PCT publication langu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: 29 video segments on WIPO’s Youtube channel about individual PCT topics from our Basic Seminar se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CT Webina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411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free updates on developments in PCT procedures, and PCT strategies—previous webinars are archived and free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411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request also for companies or law firms, for example, for focused training on how to use eP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SzPct val="1176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-person PCT Seminars and training sess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48F-794B-4F27-8E95-BE162FE05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rcRect l="0" t="7683" r="3127" b="175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CAD4-A1F7-4AEA-9C07-32DC095CD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rcRect l="0" t="15539" r="10141" b="9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ank You</a:t>
            </a:r>
            <a:r>
              <a:rPr b="0" lang="fr-CH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laus Mat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irector, Patent Cooperation Treaty (PCT) Business Developmen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World Intellectual Property Organization (WIP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34 chemin des Colombettes, 1211 Geneva 20, Switzerl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 + 41 22 338 98 09;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claus.matthes@wipo.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;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2"/>
              </a:rPr>
              <a:t>www.wipo.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C730-E27C-4034-A003-E54DF2A7E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332000" y="115920"/>
            <a:ext cx="665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raditional pat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vs.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2556000" y="1371600"/>
            <a:ext cx="1152000" cy="914400"/>
            <a:chOff x="2556000" y="1371600"/>
            <a:chExt cx="1152000" cy="914400"/>
          </a:xfrm>
        </p:grpSpPr>
        <p:sp>
          <p:nvSpPr>
            <p:cNvPr id="121" name="Rectangle 4"/>
            <p:cNvSpPr/>
            <p:nvPr/>
          </p:nvSpPr>
          <p:spPr>
            <a:xfrm>
              <a:off x="2556000" y="1371600"/>
              <a:ext cx="1152000" cy="91440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2634840" y="1482480"/>
              <a:ext cx="10731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Fees f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translation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Office fee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local ag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"/>
          <p:cNvSpPr/>
          <p:nvPr/>
        </p:nvSpPr>
        <p:spPr>
          <a:xfrm>
            <a:off x="1404360" y="247032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90200" y="24382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156680" y="2924280"/>
            <a:ext cx="928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607920" y="1981080"/>
            <a:ext cx="10062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r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194840" y="2209680"/>
            <a:ext cx="788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523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154764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2962800" y="2370960"/>
            <a:ext cx="518760" cy="999720"/>
            <a:chOff x="2962800" y="2370960"/>
            <a:chExt cx="518760" cy="999720"/>
          </a:xfrm>
        </p:grpSpPr>
        <p:sp>
          <p:nvSpPr>
            <p:cNvPr id="131" name="Line 14"/>
            <p:cNvSpPr/>
            <p:nvPr/>
          </p:nvSpPr>
          <p:spPr>
            <a:xfrm flipV="1">
              <a:off x="2962800" y="2497680"/>
              <a:ext cx="37908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2963520" y="2868840"/>
              <a:ext cx="518040" cy="13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2969280" y="2871000"/>
              <a:ext cx="365760" cy="36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2964960" y="2870640"/>
              <a:ext cx="13392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2963520" y="2733840"/>
              <a:ext cx="518040" cy="13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 flipV="1">
              <a:off x="2964960" y="2370960"/>
              <a:ext cx="135360" cy="49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0"/>
          <p:cNvSpPr/>
          <p:nvPr/>
        </p:nvSpPr>
        <p:spPr>
          <a:xfrm>
            <a:off x="141120" y="259092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di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943440" y="4097160"/>
            <a:ext cx="1876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3281400" y="5202360"/>
            <a:ext cx="2444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1193400" y="3962520"/>
            <a:ext cx="788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2490120" y="4691160"/>
            <a:ext cx="928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2801160" y="42670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1477800" y="4343400"/>
            <a:ext cx="173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7848720" y="4267080"/>
            <a:ext cx="5270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1528920" y="4645080"/>
            <a:ext cx="669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V="1">
            <a:off x="298296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3594240" y="4694400"/>
            <a:ext cx="134136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40200" y="4267080"/>
            <a:ext cx="6332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4768200" y="42670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4290840" y="3886200"/>
            <a:ext cx="1455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4"/>
          <p:cNvSpPr/>
          <p:nvPr/>
        </p:nvSpPr>
        <p:spPr>
          <a:xfrm flipV="1">
            <a:off x="4253040" y="45338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5051520" y="4705200"/>
            <a:ext cx="1550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8226360" y="4158000"/>
            <a:ext cx="513360" cy="972000"/>
            <a:chOff x="8226360" y="4158000"/>
            <a:chExt cx="513360" cy="972000"/>
          </a:xfrm>
        </p:grpSpPr>
        <p:sp>
          <p:nvSpPr>
            <p:cNvPr id="154" name="Line 37"/>
            <p:cNvSpPr/>
            <p:nvPr/>
          </p:nvSpPr>
          <p:spPr>
            <a:xfrm flipV="1">
              <a:off x="8226360" y="4278240"/>
              <a:ext cx="375480" cy="37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8226720" y="4640760"/>
              <a:ext cx="51300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>
              <a:off x="8236440" y="4644360"/>
              <a:ext cx="35532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0"/>
            <p:cNvSpPr/>
            <p:nvPr/>
          </p:nvSpPr>
          <p:spPr>
            <a:xfrm>
              <a:off x="8230320" y="4645080"/>
              <a:ext cx="129960" cy="48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 flipV="1">
              <a:off x="8226720" y="4510080"/>
              <a:ext cx="51300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 flipV="1">
              <a:off x="8230320" y="4158000"/>
              <a:ext cx="130680" cy="48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43"/>
          <p:cNvSpPr/>
          <p:nvPr/>
        </p:nvSpPr>
        <p:spPr>
          <a:xfrm>
            <a:off x="1143000" y="4708440"/>
            <a:ext cx="968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7808760" y="3532320"/>
            <a:ext cx="72576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5"/>
          <p:cNvSpPr/>
          <p:nvPr/>
        </p:nvSpPr>
        <p:spPr>
          <a:xfrm flipV="1">
            <a:off x="498168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 flipV="1">
            <a:off x="152892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5557680" y="4267080"/>
            <a:ext cx="5637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8"/>
          <p:cNvSpPr/>
          <p:nvPr/>
        </p:nvSpPr>
        <p:spPr>
          <a:xfrm flipV="1">
            <a:off x="582624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7245360" y="4267080"/>
            <a:ext cx="5619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0"/>
          <p:cNvSpPr/>
          <p:nvPr/>
        </p:nvSpPr>
        <p:spPr>
          <a:xfrm flipV="1">
            <a:off x="7516800" y="452088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6881760" y="4705200"/>
            <a:ext cx="134316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141120" y="41911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1407960" y="4191120"/>
            <a:ext cx="2635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4"/>
          <p:cNvGrpSpPr/>
          <p:nvPr/>
        </p:nvGrpSpPr>
        <p:grpSpPr>
          <a:xfrm>
            <a:off x="7956720" y="2565360"/>
            <a:ext cx="1186920" cy="914400"/>
            <a:chOff x="7956720" y="2565360"/>
            <a:chExt cx="1186920" cy="914400"/>
          </a:xfrm>
        </p:grpSpPr>
        <p:sp>
          <p:nvSpPr>
            <p:cNvPr id="172" name="Rectangle 55"/>
            <p:cNvSpPr/>
            <p:nvPr/>
          </p:nvSpPr>
          <p:spPr>
            <a:xfrm>
              <a:off x="7956720" y="2565360"/>
              <a:ext cx="1074600" cy="91440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6"/>
            <p:cNvSpPr/>
            <p:nvPr/>
          </p:nvSpPr>
          <p:spPr>
            <a:xfrm>
              <a:off x="8044200" y="2676240"/>
              <a:ext cx="1099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Fees fo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translation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Office fees</a:t>
              </a:r>
              <a:br>
                <a:rPr sz="900"/>
              </a:br>
              <a:r>
                <a:rPr b="1" lang="en-US" sz="900" spc="-1" strike="noStrike">
                  <a:solidFill>
                    <a:srgbClr val="af3737"/>
                  </a:solidFill>
                  <a:latin typeface="Times New Roman"/>
                  <a:ea typeface="ヒラギノ角ゴ Pro W3"/>
                </a:rPr>
                <a:t>--local ag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0773-BB7B-456C-AF2B-13F23886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8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192" name="Line 19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25"/>
          <p:cNvSpPr/>
          <p:nvPr/>
        </p:nvSpPr>
        <p:spPr>
          <a:xfrm>
            <a:off x="815760" y="3465360"/>
            <a:ext cx="11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57200" y="4800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Typically a national patent application in the home country of the appli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1266840" y="3962520"/>
            <a:ext cx="1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3F3-8F29-4644-AE5D-1C155D2E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128320" y="3486240"/>
            <a:ext cx="11282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226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3"/>
          <p:cNvSpPr/>
          <p:nvPr/>
        </p:nvSpPr>
        <p:spPr>
          <a:xfrm>
            <a:off x="274320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1676520" y="4572000"/>
            <a:ext cx="213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Typically filed in same national patent office--one set of fees, one language, one set of formality requirements--and legal effect in all PCT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D57-3BA3-46B3-BCA6-510A81232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675240" y="2754360"/>
            <a:ext cx="187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16080" y="4116240"/>
            <a:ext cx="24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76600" y="2774880"/>
            <a:ext cx="892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171520" y="3486240"/>
            <a:ext cx="10414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3152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140840" y="3029040"/>
            <a:ext cx="28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7696080" y="3048120"/>
            <a:ext cx="395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1266840" y="342900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43200" y="329076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3325680" y="3490920"/>
            <a:ext cx="1338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search report &amp; written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803040" y="302904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4528440" y="3030480"/>
            <a:ext cx="385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971880" y="262728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V="1">
            <a:off x="3986280" y="32922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782960" y="3505320"/>
            <a:ext cx="1546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eman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7"/>
          <p:cNvGrpSpPr/>
          <p:nvPr/>
        </p:nvGrpSpPr>
        <p:grpSpPr>
          <a:xfrm>
            <a:off x="7923240" y="2829960"/>
            <a:ext cx="543240" cy="1197720"/>
            <a:chOff x="7923240" y="2829960"/>
            <a:chExt cx="543240" cy="1197720"/>
          </a:xfrm>
        </p:grpSpPr>
        <p:sp>
          <p:nvSpPr>
            <p:cNvPr id="261" name="Line 18"/>
            <p:cNvSpPr/>
            <p:nvPr/>
          </p:nvSpPr>
          <p:spPr>
            <a:xfrm flipV="1">
              <a:off x="7954560" y="3022560"/>
              <a:ext cx="37440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9"/>
            <p:cNvSpPr/>
            <p:nvPr/>
          </p:nvSpPr>
          <p:spPr>
            <a:xfrm>
              <a:off x="7954920" y="344088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>
              <a:off x="7923240" y="3429360"/>
              <a:ext cx="437400" cy="43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1"/>
            <p:cNvSpPr/>
            <p:nvPr/>
          </p:nvSpPr>
          <p:spPr>
            <a:xfrm>
              <a:off x="7943400" y="3429720"/>
              <a:ext cx="160200" cy="59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 flipV="1">
              <a:off x="7954920" y="3279960"/>
              <a:ext cx="511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V="1">
              <a:off x="7943400" y="2829960"/>
              <a:ext cx="16092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24"/>
          <p:cNvSpPr/>
          <p:nvPr/>
        </p:nvSpPr>
        <p:spPr>
          <a:xfrm>
            <a:off x="816480" y="3465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l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7493760" y="2057400"/>
            <a:ext cx="81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71312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 flipV="1">
            <a:off x="12668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527544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555624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6962760" y="3048120"/>
            <a:ext cx="5634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1"/>
          <p:cNvSpPr/>
          <p:nvPr/>
        </p:nvSpPr>
        <p:spPr>
          <a:xfrm flipV="1">
            <a:off x="7245360" y="327636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6611760" y="3505320"/>
            <a:ext cx="1338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eliminary report on pate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200400" y="480060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072"/>
                </a:solidFill>
                <a:latin typeface="Arial"/>
                <a:ea typeface="ヒラギノ角ゴ Pro W3"/>
              </a:rPr>
              <a:t>Report on state of the art (prior art documents and their relevance) + initial patentability opi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>
            <a:off x="40384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5"/>
          <p:cNvSpPr/>
          <p:nvPr/>
        </p:nvSpPr>
        <p:spPr>
          <a:xfrm>
            <a:off x="2656080" y="22860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C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MATTHES Claus</dc:creator>
  <dc:description/>
  <dc:language>en-US</dc:language>
  <cp:lastModifiedBy>PALMIERI Sylvie</cp:lastModifiedBy>
  <dcterms:modified xsi:type="dcterms:W3CDTF">2013-09-13T13:50:30Z</dcterms:modified>
  <cp:revision>250</cp:revision>
  <dc:subject/>
  <dc:title>Slide 1</dc:title>
</cp:coreProperties>
</file>