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C16-1432-4EEE-AEFE-AAAE60629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6DF1-8DD4-487D-B061-CC22E7E2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B1D-F2B5-436D-AA32-0626A7A4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69960" y="4746600"/>
            <a:ext cx="53355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F91E-CBC0-4946-8183-2C6EA7307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0F2E-248A-42C8-A1FA-9F9430CF7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714B-5A8C-43E8-947F-23C9CECA0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5602-B92B-4837-A1F0-6582C3301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D497-BEF3-4A16-9B22-957654633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9666-9D78-46B8-B2B5-A2CBF2BB8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421B-2A32-42BB-8107-CFC1D1552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1C9B-ACC2-48B8-983B-1B2310367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4C7A-3B61-4963-83F9-3553D6D25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2603-E182-4184-B54C-507FEB56B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5E8E-1210-4AF3-BCD8-586F4CB26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4A68-83BC-425C-8BB8-E8ED85EED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1E0-BBEC-41D1-87EC-B0455FCE6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26920" y="2421000"/>
            <a:ext cx="65217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WIPO Breakfast Serie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oing Business Intern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Using Madrid to Best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84360" y="5884920"/>
            <a:ext cx="47098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Neil WILS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Functional Support Div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Brands and Designs S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mplyfing Madrid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37920" y="1307880"/>
            <a:ext cx="5770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Retiring th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The Basic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Work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rnising Madrid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IT Modernis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                </a:t>
            </a:r>
            <a:r>
              <a:rPr b="1" lang="fr-CH" sz="2000" spc="-1" strike="noStrike">
                <a:solidFill>
                  <a:srgbClr val="70899b"/>
                </a:solidFill>
                <a:latin typeface="Arial"/>
              </a:rPr>
              <a:t>Madrid Goods and Services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An online tool for drafting correct specifications of goods and services, in 15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70899b"/>
                </a:solidFill>
                <a:latin typeface="Arial"/>
              </a:rPr>
              <a:t>Madrid Portfolio Manager</a:t>
            </a: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A tool to allow the holders and representatives of International Registrations to view and modify the International Registrations for which they are responsible, with</a:t>
            </a: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tailored links to e-renewal and e-payment</a:t>
            </a: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12920" y="391464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rnising Madrid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70899b"/>
                </a:solidFill>
                <a:latin typeface="Arial"/>
              </a:rPr>
              <a:t>Madrid Real-tim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An online tool to allow users to determine the current status of their applications at W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70899b"/>
                </a:solidFill>
                <a:latin typeface="Arial"/>
              </a:rPr>
              <a:t>Madrid Electronic Alert</a:t>
            </a: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A tool to allow users to register a list of International Registrations and to be informed by email when any of them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241280" y="3716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67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811760" y="1700280"/>
            <a:ext cx="35053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70899b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drid System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37920" y="1307880"/>
            <a:ext cx="5770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12 Years of Operation in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Lates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Simplification and Moder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 Origin International Applications 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250920" y="612720"/>
          <a:ext cx="81374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12720"/>
                    <a:ext cx="81374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re are Australians seeking protection (2012) ?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92" name="Object 10"/>
          <p:cNvGraphicFramePr/>
          <p:nvPr/>
        </p:nvGraphicFramePr>
        <p:xfrm>
          <a:off x="539640" y="682560"/>
          <a:ext cx="820908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82560"/>
                    <a:ext cx="820908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92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classes are being protected (2012)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250920" y="566640"/>
          <a:ext cx="820872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66640"/>
                    <a:ext cx="820872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360" y="-30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stralian Designations from abroad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287280" y="555480"/>
          <a:ext cx="838836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555480"/>
                    <a:ext cx="838836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st frequent classes in Designations from abroad (2012)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101" name="Object 5"/>
          <p:cNvGraphicFramePr/>
          <p:nvPr/>
        </p:nvGraphicFramePr>
        <p:xfrm>
          <a:off x="324000" y="612720"/>
          <a:ext cx="81356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12720"/>
                    <a:ext cx="81356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test Developments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57708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Acc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899b"/>
                </a:solidFill>
                <a:latin typeface="Arial"/>
              </a:rPr>
              <a:t>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Rw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Tun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test Developments </a:t>
            </a:r>
            <a:endParaRPr b="0" lang="en-US" sz="2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37920" y="475920"/>
            <a:ext cx="5770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EU class heading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Article 14.5 and Philippines, India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Syria denounces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Tunisia rejoins 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0899b"/>
                </a:solidFill>
                <a:latin typeface="Arial"/>
              </a:rPr>
              <a:t>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PALMIERI Sylvie</dc:creator>
  <dc:description/>
  <dc:language>en-US</dc:language>
  <cp:lastModifiedBy>PALMIERI Sylvie</cp:lastModifiedBy>
  <dcterms:modified xsi:type="dcterms:W3CDTF">2013-08-21T07:58:51Z</dcterms:modified>
  <cp:revision>44</cp:revision>
  <dc:subject/>
  <dc:title>Slide 1</dc:title>
</cp:coreProperties>
</file>