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B5C9FCC-508F-49E3-8F0C-0DC98E22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8A1E886-2A18-42DE-837D-94CDC91D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EBDE404-BA45-4F7A-9CA0-DD238B52B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4E8C866-5A93-47F8-BAC3-E96DAD84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1F5D4F2-B025-4AE3-926E-02F0ABCE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BFA10D8-2696-471B-91DF-234CACE3D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1A56967-565E-447F-99C4-690EFFF69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4E42562-BD18-4330-8ED0-DFD4CF3E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1DABF05-D540-4E4D-9D40-FC19EC5E6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61006AF-9566-459E-B8BA-F7FFD371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B16622E-6E2F-4E5B-A8E1-A92EE795C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0CE67C3-52CA-48BA-8380-6DF35C73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2433C3E-C326-4CD6-8863-268A624D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5114FF1-42F9-49B8-95D1-FCF811CF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0A7C4E8-49E0-44F9-B8FD-FD7D9B56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03870CE-9EE1-45DA-9E1B-70B6A6BE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7953234-3CD4-4C34-AC1E-DCE1CA172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2946202-51A6-4C10-8964-F3E2E238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036A58E-28B1-46CF-8A47-79438FFF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77AE173-4B49-4508-AC77-60EFB1D1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6C29735-8C47-4958-BFEF-86412D5E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35A7C8F-C33E-453D-B949-AEE174BD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0AF7E67-45A4-41A1-80F0-F00EDDBD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156F0B6-5987-4B99-9DA8-75105411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A492238-CB5A-44A0-A62E-AEB251E49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8097259-CAF0-4875-92C2-C0814A3F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8E61EE1-17BD-4FCC-AAB0-7E919D53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B90CBD0-F90B-4BE0-8363-2F6073E5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9CF5110-5BA9-461B-AC58-9EB15AF6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C193A7A-706F-4221-8489-7909CD7D5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A66341F-C298-4F69-8055-19E7D058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99DB30C-87C6-4927-A575-63079385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C78D643-5108-4AFC-9F96-0C1B6430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B1808EC-7D2D-47C5-B3D8-E233A647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8A0521B-F19F-45A7-BF97-9CF1102A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1029D65-FECE-4731-850C-D7B5FC92D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C16B-49DA-48F4-AD32-1DBC44D9C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3C4C-887E-4022-BE97-A905AB32B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228B-5DA9-4DA2-A04C-3FCA3BD8B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FAB9-CF4B-4EAE-BF10-CDBE9E4C3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22AF-B054-4577-89D2-09237709C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2604-7B07-404C-A364-F3ADE7359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2E05-F63A-4420-8834-20B4CD937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0914-7BF9-4F42-91E6-5BAC74FEB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ED26-3F8A-47D2-B6D4-3787BCB65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6D26-21D2-46CE-80F0-1C8D40B13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B9FD-47CA-47E6-B2EF-FB4010CD5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30A6-51DA-46DB-BE58-7BCC2679E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8C4-332F-461B-8BEF-0EC0178CD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55640" y="4183200"/>
            <a:ext cx="61927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SAS Presentation to the IA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AOC/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May 20,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DF79-2B37-4DE3-B621-2397B0BD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he expected benefits of IPSA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eater detail and increased disclosure in financial stat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dependent standards, up to date with latest financial develop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ithin the UN System, with other international organizations, and over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mplete information on assets, liabilities, revenues and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99D9-212A-40E7-B2E5-F2617C4F2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SAS System-wide Project Accountability Struct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25401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7CFE-00A5-4A6B-9700-52ADC633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sk Force and IPSAS Project Team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ystem-wide IPSAS meetings per year (one conference call, one face-to-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system-wide guidanc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wards harmonization of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the IPSASB and comment on exposure drafts and consultation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e with the Technical Group of the Panel of External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D1F6-E2D0-4E3F-8901-13E9867B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mplementation by UN System organiza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476360" y="1297080"/>
            <a:ext cx="633564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C941-6A1F-40BB-B234-5306ED286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IPSAS accounting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A1D-412D-4FC3-BB76-E6740782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hange in the basis of accounting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ded Corner 17"/>
          <p:cNvSpPr/>
          <p:nvPr/>
        </p:nvSpPr>
        <p:spPr>
          <a:xfrm>
            <a:off x="6595920" y="2349360"/>
            <a:ext cx="1094040" cy="482760"/>
          </a:xfrm>
          <a:prstGeom prst="foldedCorner">
            <a:avLst>
              <a:gd name="adj" fmla="val 6537"/>
            </a:avLst>
          </a:prstGeom>
          <a:solidFill>
            <a:srgbClr val="99ccff"/>
          </a:solidFill>
          <a:ln w="9360">
            <a:solidFill>
              <a:srgbClr val="d6af5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 Unicode MS"/>
              </a:rPr>
              <a:t>IP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7"/>
          <p:cNvSpPr/>
          <p:nvPr/>
        </p:nvSpPr>
        <p:spPr>
          <a:xfrm>
            <a:off x="1835280" y="3429000"/>
            <a:ext cx="4763880" cy="1440"/>
          </a:xfrm>
          <a:prstGeom prst="line">
            <a:avLst/>
          </a:prstGeom>
          <a:ln w="1015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79"/>
          <p:cNvSpPr/>
          <p:nvPr/>
        </p:nvSpPr>
        <p:spPr>
          <a:xfrm>
            <a:off x="987480" y="3213000"/>
            <a:ext cx="847800" cy="41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79"/>
          <p:cNvSpPr/>
          <p:nvPr/>
        </p:nvSpPr>
        <p:spPr>
          <a:xfrm>
            <a:off x="6599160" y="3051000"/>
            <a:ext cx="1116000" cy="7621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ccr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79"/>
          <p:cNvSpPr/>
          <p:nvPr/>
        </p:nvSpPr>
        <p:spPr>
          <a:xfrm>
            <a:off x="3203640" y="3068640"/>
            <a:ext cx="1655640" cy="7621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ash/Accr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lded Corner 17"/>
          <p:cNvSpPr/>
          <p:nvPr/>
        </p:nvSpPr>
        <p:spPr>
          <a:xfrm>
            <a:off x="3492360" y="2349360"/>
            <a:ext cx="1094040" cy="482760"/>
          </a:xfrm>
          <a:prstGeom prst="foldedCorner">
            <a:avLst>
              <a:gd name="adj" fmla="val 6537"/>
            </a:avLst>
          </a:prstGeom>
          <a:solidFill>
            <a:srgbClr val="99ccff"/>
          </a:solidFill>
          <a:ln w="9360">
            <a:solidFill>
              <a:srgbClr val="d6af5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 Unicode MS"/>
              </a:rPr>
              <a:t>UN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D59-E33B-4D6C-BD38-03BC7686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ull accrual basis of accounting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and events recognized when they occur and in the financial statements of the periods to which they re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es - goods/services are recognized in the financial statements when they are deli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 – fee income recognized when earned as services are ren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ssets and liabilities are recog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5412-B24A-4AA1-AA3B-14B0ECD7B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evenue recognition at WIPO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s for the processing of international applications (PCT, Trademark, Industrial Designs) are recognized as revenue when services are performed – i.e. at the date of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PCT fees is only recognized as revenue when the translation of patentability reports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significant deferred revenue liabilities in the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4C8-DBE9-4DB8-B144-860A8051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Employee benefits at WIPO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ll liability for post-employment benefits is recognized (future payments for services already rend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SHI and repatriation benefits, the Organization has an obligation to provide agreed benefits to current and forme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uarial calculations to make an estimate of the cost of benefits that employees have ear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significant employee benefit liabilities in the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506-C35F-4867-9E9B-6C2DE2F5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Land and buildings at WIPO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s in use as at 1/1/2010 were valued at deemed cost of construction less accumulated depreciation, and continue to be depreciated over useful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nstructions since 1/1/2010 are capitalized at cost and are depreciated over useful l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uilding site land is recognized at fair (market)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rid (Meyrin) building is classified as an investment property and held at fai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d land surface rights (PCT building site) are treated as an intangible asset and amortized over rights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D17-5F9D-4639-B3CD-04C01CF6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SAS Presentation to the IAO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to be cov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IP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SAS adoption in the U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SAS accoun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SAS impacts at W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PO 2013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SAS going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580000" y="2708280"/>
            <a:ext cx="216000" cy="2521080"/>
          </a:xfrm>
          <a:custGeom>
            <a:avLst/>
            <a:gdLst>
              <a:gd name="textAreaLeft" fmla="*/ 0 w 216000"/>
              <a:gd name="textAreaRight" fmla="*/ 78120 w 21600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940360" y="2781360"/>
            <a:ext cx="1511280" cy="2448000"/>
          </a:xfrm>
          <a:custGeom>
            <a:avLst/>
            <a:gdLst>
              <a:gd name="textAreaLeft" fmla="*/ 0 w 1511280"/>
              <a:gd name="textAreaRight" fmla="*/ 545760 w 1511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4749-36BB-4B0F-BF3D-84EFFAEF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Budget presentation in the financial statement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present a comparison of budgeted amounts and actual amounts on the budgetary basis (see statement V in the financial stat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budgeted amounts required – biennial budget split into annu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budgetary basis (modified accrual basis) and the accounting basis (IPSAS full accrual basis) differ, a reconciliation of the two results for the year must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422D-633D-494B-8E44-AE0BBDF3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IPSAS impacts at W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319-8B4E-42CF-9CB6-4D7B7B020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SAS Opening balance adjustmen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048360" cy="28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6DA9-998D-4A9A-9EC0-4215B58C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Other impac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audit sign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f accounting policies (Policy Guidance Man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processes – recording and tracking fixed assets, recognizing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ystem upgrades and developments (purchasing, e-procurement, asset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financial regulations and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training 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ovision of information from HR, Buildings, Procurement, Publicatio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9391-CB1D-465A-A3E6-1A0B5125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WIPO 2013 financial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02CE-1743-416F-8931-34145476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2013 Statement of Financial Performanc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1744560" y="1268280"/>
            <a:ext cx="49309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27B8-AF05-448F-9E04-1741E9B89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2013 Impact of IPSAS Adjustmen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408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4599-0CE0-4206-B0F2-A4F843748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2013 Statement of Financial Posi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1763640" y="1123920"/>
            <a:ext cx="481176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E082-BB9A-44CC-BC67-AB6EA4CBB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Summary - assets and liabilities 31/12/2013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453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72B-8976-4CE9-8554-59C7ADF3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hange in accounting policy (1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3 the accounting policy relating to the recognition of revenue from PCT was chang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odel developed to calculate balances of debtors and deferred reven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ng available data by individual application (including all dates throughout the application proce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to the applicable foreign currency exchange ra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 from the fees for extra pages is deferred until publication for all formats of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all fee reductions, including developing country reduc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50F3-6650-44C7-8D8F-20633BE5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Introduction to IP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491F-5C4D-465A-9570-F237FD7B4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hange in accounting policy (2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change in accounting policy is recognized retrospectively, requiring restatement of 2011 and 2012 comparative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332000" y="3376440"/>
            <a:ext cx="6500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0A80-B6DB-489D-BAA4-31615F25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ash and cash equivalents 31/12/2013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8482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932-E25A-4271-B9FB-60D571BE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ixed assets 31/12/2013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2124000" y="1536840"/>
            <a:ext cx="51102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6AAD-9317-40CD-82F0-8D792987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Other assets 31/12/2013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914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A55E-07E6-4782-BF20-806630349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Payables and advance receipts 31/12/2013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332000" y="1538280"/>
            <a:ext cx="6619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FF95-4272-4D19-868A-18BC1F16F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Employee benefit liabilities 31/12/2013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129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0E3-BFC1-4F8D-8CED-33CD49860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Movement in ASHI liability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liability from actuary going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45720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: CHF 127.8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45720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5: CHF 135.4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4572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: CHF 142.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4572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7: CHF 149.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6"/>
          <a:stretch/>
        </p:blipFill>
        <p:spPr>
          <a:xfrm>
            <a:off x="1692360" y="1628640"/>
            <a:ext cx="598320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4AA-A0F8-464F-8C0E-B0A9A26E1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Borrowings 31/12/2013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784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A405-5389-4D62-8685-702072F6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eserves and fund balanc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900000" y="1639800"/>
            <a:ext cx="720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F649-E7C5-49DF-A65D-16B998421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New disclosures in 2013 financial statements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25 financial instruments – summary of risks (forex, credit, interest rate, liquidity) including 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2 changes in accounting policies and estimates – details of impact of change in accounting policy, and explanation of presentatio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 discussion and analysis in line with IPSASB RP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AAAC-660C-4209-8A32-7BAF858F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nternational Public Sector Accounting Standards (IPSAS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standards which establish guidelines on how economic transactions and events should be reported in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32 standards, with others in th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detailed than the previously applied United Nations System Accounting Standards (UN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directly impact the preparation and formulation of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88EE-4E3C-4DC5-9E76-47F389955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IPSAS going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A676-1846-4005-BDE4-8698E0E3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SAS issues/developmen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to be addressed/monitored going forw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SAS 28-30 Financial Instruments – accounting implications for any future hedg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RS changes to accounting for employee benefits, removal of the corrido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accounting for the New Conferenc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guidance on narrative disclosures/repor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G 2: Financial Statement Discussion and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 54: Reporting Service Performanc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CF4A-F920-4423-967C-8DB6ADBA7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2DB7-E3B0-48D2-ACA4-9C045DB1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Preparation of IPSAS standard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lly for the public sector, but largely based on International Financial Reporting Standards (IF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and adopted by an independent board (IPSASB), part of the International Federation of Accountants (IF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development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685800" y="4952880"/>
            <a:ext cx="74674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9BFE-14AA-4D66-BFD8-CEAD4F071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pplication of IPSA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European Commission project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organiz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48E4-6D15-4670-B211-BC6306B64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IPSAS adoption in the U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F8AE-EB63-4037-8664-F9D6B22D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he decision to adopt IPSAS (1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93, UN system organizations were applying UNSAS when preparing their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ncerns were raised (both internally and by external auditors) that this did not represent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Task Force on Accounting Standards was commissioned to review the possible adoption of external accountin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concluded IPSAS represented international best prac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ile:Flag of the United Nations.svg"/>
          <p:cNvPicPr/>
          <p:nvPr/>
        </p:nvPicPr>
        <p:blipFill>
          <a:blip r:embed="rId5"/>
          <a:stretch/>
        </p:blipFill>
        <p:spPr>
          <a:xfrm>
            <a:off x="7164360" y="549360"/>
            <a:ext cx="1735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3C64-C7F0-4A40-AED5-273F1533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he decision to adopt IPSAS (2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vember 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 System High-Level Committee on Management (HLCM) recommend adoption of IPSAS by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ril 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 System Chief Executives Board for Coordination (CEB) endorse HLCM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ly 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 General Assembly (resolution 60/283) approves the adoption of IPSAS by the United 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ptember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ssemblies of the Member States of WIPO approve the adoption of IPSAS by WIPO (A/43/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ile:Flag of the United Nations.svg"/>
          <p:cNvPicPr/>
          <p:nvPr/>
        </p:nvPicPr>
        <p:blipFill>
          <a:blip r:embed="rId5"/>
          <a:stretch/>
        </p:blipFill>
        <p:spPr>
          <a:xfrm>
            <a:off x="7164360" y="549360"/>
            <a:ext cx="1735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CHAMBONNET Dorian</dc:creator>
  <dc:description/>
  <dc:language>en-US</dc:language>
  <cp:lastModifiedBy>NETTER Iza</cp:lastModifiedBy>
  <cp:lastPrinted>2014-05-16T14:42:08Z</cp:lastPrinted>
  <dcterms:modified xsi:type="dcterms:W3CDTF">2014-07-24T12:36:05Z</dcterms:modified>
  <cp:revision>62</cp:revision>
  <dc:subject/>
  <dc:title>Slide 1</dc:title>
</cp:coreProperties>
</file>