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A64-B409-4C6B-9A3A-FCF33617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398-8E7E-4873-A390-8DEE7CC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F2C-F28D-4F2C-ACEE-559BFC32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188-8A2A-40D7-A553-EF6A347B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2071-9C42-4F82-B316-F8F14CD1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F6C8-0843-4686-AA0C-9851AC2F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40BB-96C4-48BE-8DE9-9B9F6F20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599D-5D7B-49C5-87B2-EEB59FF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D3D7-234D-4EBB-ADF0-E559F763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0729-43EC-4942-AF0F-D3F22E5A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BC10-08EE-43B3-8443-9EA8FBD1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2E8-C344-4E2B-BC38-E1312B07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210E-EC80-4196-A62B-AC04D3A3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FC3D-502A-4246-A12E-8D98BC7E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4682-E484-4170-B981-7CEE3DCF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D2F-3297-4E3A-9630-13E0BBF6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A5B8-53E1-4495-AA6D-4DB335F4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0DC-CB6D-4025-BCF8-9C725747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AEC-F4C7-4E9B-88E6-3E2B8004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613-073C-478D-B79E-1C7D3C2C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3D9-CE1D-414F-95BF-2FF4BED5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0A7-536D-46C3-9718-FD274482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646-D5D2-4008-A45C-D6034D97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E78-F59C-4B2B-9001-4D9B5E22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c575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7320-D8EF-47B3-9C86-BD4117C73A22}" type="slidenum"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57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90C-AC50-4C2B-88A2-4B7C6BFA48AD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9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Progress Report</a:t>
            </a:r>
            <a:br>
              <a:rPr sz="3600"/>
            </a:b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TF Sequence Listing in XML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4724280"/>
            <a:ext cx="3384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R. Suarez y Gonzalez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91080" y="4724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15.04.2013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por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rst Draft agreed in March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Public consultations by some offices till August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Processing of the comments till December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daptation of the First Draft to the public comment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nce December 2012, JPO, USPTO and EPO engaged discussion with the Database Providers DDBJ, NCBI and EBI respectively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ummary of the results from the Public Consultations (1/2)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Held by JPO, USPTO and EPO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High number of comment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milar results across the three consultation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ummary of the results from the Public Consultations (2/2)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omments related to: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e text of the new proposa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ll comments have been considered in the revised texts of the proposal - typically minor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e implementation of the standard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ransition issues, drafting of the new format, ..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s such not under the responsibility of the Task Force, will be taken into account when drafting an advice for the MIA and PCT Working Group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oadmap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ue to delays in the contacts with the DB providers, revised roadmap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Round 6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xtended till end of June 2013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f required, closed with a Task Force Meeting to finalize the Draft 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(date and venue to be confirmed)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nal round of revisions, during summer 2013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ubmission of the documents to WIPO in September 2013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Thank you !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Questions ?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1:56:00Z</dcterms:created>
  <dc:creator>Raul Suarez y Gonzalez</dc:creator>
  <dc:description/>
  <dc:language>en-US</dc:language>
  <cp:lastModifiedBy>Raul Suarez y Gonzalez</cp:lastModifiedBy>
  <dcterms:modified xsi:type="dcterms:W3CDTF">2013-04-12T07:21:39Z</dcterms:modified>
  <cp:revision>3</cp:revision>
  <dc:subject/>
  <dc:title>Progress Report TF Sequence Listing in X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