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DB2-567F-4B5E-9297-A9BEC465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C9F-E09B-463F-9C6B-721679D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2EE-8A98-46C5-BE1B-0EF4AFA2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726-D85E-4EDE-AEA4-37BC30A3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27AC-4CE8-4C81-AAF3-F0B1A0D9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E628-5AAE-4320-AF97-80497449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4DEB-4516-423A-B8B3-064583FA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F132-78CF-4792-9135-5F0FA228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8F65-F3A5-4D24-BF85-5C137B8F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59F8-F1DC-4CD9-A222-E12CC48F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1F4-C5C9-4D5C-885E-85CC81D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848-35AA-4FAB-BBC0-280AD477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63EF-4147-4CE4-8F7B-87F64C9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0BAB-19BB-4974-862C-0839EFB1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445-459A-4F93-9B67-E0374BE0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504A-42E3-4CFE-B02E-D2960C22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7ADD-E666-4F67-8F83-609AE8AB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33B-10C1-480F-A9B0-1FECF7F2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839-D045-4511-855E-E8C90870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6B9-0DF0-4C2B-98C5-AC8A75D9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9DD-B881-4482-A84A-34626D81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95B-A71C-4C12-A172-2923392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39D-86A5-4576-9A05-6DDCB07C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6A2-F05F-41AE-A6BA-26303E9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1D50-7059-4A3E-B234-5B039D1172EB}" type="slidenum"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ED9-273C-47AF-865D-31633102C674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9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Progress Report</a:t>
            </a:r>
            <a:br>
              <a:rPr sz="3600"/>
            </a:b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TF Sequence Listing in XML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338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R. Suarez y Gonzalez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91080" y="4724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15.04.2013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por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rst Draft agreed in March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ublic consultations by some offices till August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rocessing of the comments till December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daptation of the First Draft to the public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nce December 2012, JPO, USPTO and EPO engaged discussion with the Database Providers DDBJ, NCBI and EBI respectively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1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eld by JPO, USPTO and EPO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igh number of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milar results across the three consultation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2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omments related to: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text of the new proposa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ll comments have been considered in the revised texts of the proposal - typically minor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implementation of the standard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ransition issues, drafting of the new format, 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s such not under the responsibility of the Task Force, will be taken into account when drafting an advice for the MIA and PCT Working Group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oadmap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ue to delays in the contacts with the DB providers, revised roadmap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Round 6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xtended till end of June 2013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f required, closed with a Task Force Meeting to finalize the Draft 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(date and venue to be confirmed)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nal round of revisions, during summ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ubmission of the documents to WIPO in Septemb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Thank you !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Questions ?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1:56:00Z</dcterms:created>
  <dc:creator>Raul Suarez y Gonzalez</dc:creator>
  <dc:description/>
  <dc:language>en-US</dc:language>
  <cp:lastModifiedBy>Raul Suarez y Gonzalez</cp:lastModifiedBy>
  <dcterms:modified xsi:type="dcterms:W3CDTF">2013-04-12T07:21:39Z</dcterms:modified>
  <cp:revision>3</cp:revision>
  <dc:subject/>
  <dc:title>Progress Report TF Sequence Listing in X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