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D966-C79D-4082-9BFD-10D471CEC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0F84-4D6C-4A0A-85A5-EA2294FD0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C309-EF79-4979-BB9A-6A49F869F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D51C-505C-431C-B5A9-3C535783C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F2BB-8A75-4810-AD4A-D4DEE22E1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9EC9-96E8-4BBD-9567-139CE6471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3401-F8D3-4046-BBC0-35B778AE8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F1D3-B8DF-4F62-9743-D6B4EDCF1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F2F3-ECCD-4358-8909-A63217351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37E7-11E7-4B25-9050-12C6CAC15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3C11-B3F7-4A63-BEE7-3D796A8D1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F9FA-0749-452F-B33B-C3D79C202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136C-563F-4F1A-B145-8A7F1C586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hyperlink" Target="http://www.wipo.int/ipc-ief/ief-projects/qc013/qc013-a09_ibco.xls" TargetMode="External"/><Relationship Id="rId6" Type="http://schemas.openxmlformats.org/officeDocument/2006/relationships/hyperlink" Target="http://www.wipo.int/ipc-ief/ief-projects/qc013/qc013-a09_ibco.xls" TargetMode="External"/><Relationship Id="rId7" Type="http://schemas.openxmlformats.org/officeDocument/2006/relationships/hyperlink" Target="http://www.wipo.int/ipc-ief/ief-projects/qc013/qc013-a09_ibco.xls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web2.wipo.int/ipc-ief/en/project/1540/CE446" TargetMode="External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hyperlink" Target="http://www.wipo.int/ipc-ief/ief-projects/ce446/ce446-a08_ibco.ppt" TargetMode="Externa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2.wipo.int/ipc-ief/en/project/1540/CE446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eb2.wipo.int/ipcreclass/en/report/document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9320" y="4183200"/>
            <a:ext cx="49370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13. Report on the progress of the WIPO IPCRECLAS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Committee of Experts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T operations and support for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828800"/>
            <a:ext cx="3200400" cy="1371600"/>
          </a:xfrm>
          <a:prstGeom prst="cloudCallout">
            <a:avLst>
              <a:gd name="adj1" fmla="val -54611"/>
              <a:gd name="adj2" fmla="val 92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66880" y="3581280"/>
          <a:ext cx="2917800" cy="20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581280"/>
                    <a:ext cx="291780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happened in IPCRECLASS since CE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happened since CE4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ECLASS Move into production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S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ing Lists uploaded for 2009, 2010, 2011 (June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ow number of reclassification see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QC013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nex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E446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project for feedback from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of 569431 working lists for IPC 2013.01 (Oct. 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raining session for offices February 26, 2013 (training support under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EF CE446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Recent developme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B considered some CE446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ort of result List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cess for offices to their IPCRECLASS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pecial opera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Special Operations Mode (SOM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260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40200" y="431172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.g. during upload of WLs by W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open ques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Office feedback from offices (see IEF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6</a:t>
            </a: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erformance iss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ymbols at family level e.g. several « firs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.8 format not accepted by IPCRECLASS =&gt;Not up to date  Result list DTD (ST. 8 format , mandatory dat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otification about reclassification done by another office on a WL they are responsible for (stage 1b and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open ques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IPC workshop 2013 + IPCRECLASS training ses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ad-only access for commercial providers to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RECLASS report tab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perspectiv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lanned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sider implementation of default transfer for stag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lution needed to inform MCD about reclassification item done with 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plicit deactivation of old symbols in all result lists exported 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perspectiv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her actions? e.g. for ope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ecision needed based on C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Fiévet, Conde</dc:creator>
  <dc:description/>
  <cp:keywords>IPC IPC RECLASS</cp:keywords>
  <dc:language>en-US</dc:language>
  <cp:lastModifiedBy>Malanga</cp:lastModifiedBy>
  <dcterms:modified xsi:type="dcterms:W3CDTF">2013-03-04T09:38:03Z</dcterms:modified>
  <cp:revision>38</cp:revision>
  <dc:subject>IPC/CE/45 - IPCRECLASS project status review</dc:subject>
  <dc:title>IPC/CE/45 - IPCRECLASS project status review</dc:title>
</cp:coreProperties>
</file>