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038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5624280" y="-360"/>
            <a:ext cx="430524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3269880" y="509760"/>
            <a:ext cx="33987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93240" y="3227040"/>
            <a:ext cx="79455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6453000"/>
            <a:ext cx="4303800" cy="33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5624280" y="6453000"/>
            <a:ext cx="4305240" cy="33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797E-8E47-4694-B66B-80BB17CB8F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27024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93240" y="3227040"/>
            <a:ext cx="794556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5624640" y="6453360"/>
            <a:ext cx="43052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43B1-1E3A-4A23-A6D9-44B476A1697F}" type="slidenum">
              <a:rPr b="0" lang="en-US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9BDCAB6-F79C-4016-A7D9-6DEA2EFCD1EC}" type="slidenum">
              <a:rPr b="0" lang="en-US" sz="12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397320" cy="25477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321920" y="3227040"/>
            <a:ext cx="728676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09D-6B8B-45E3-A8F4-E9E85DF0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B1E-EE42-4293-B618-DAB199D7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515-683A-472A-B23A-E3413724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F02-36FF-4439-83DA-08F741A6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53D7-DD6E-4E1C-ABDF-6582C4A1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0E23-DBA3-4E6B-9381-16CC2EC5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40A6-DA5C-4DC0-8875-05FB6477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2ACB-83C6-4418-A5C5-BE91DC38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B0BE-A6D8-4183-AC41-1BA76F45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59B0-EE60-477D-956A-3B770CFC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3C76-CFD3-4782-AB11-2F919114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292-C655-4B50-96CE-E7CC6BD8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F00F-CB8E-486D-A919-84511282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FBE6-DB0E-48C9-83C6-9875400A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9FCF-9B4A-4168-B863-A31FBCFA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2600-81B8-4B66-AD54-C126A379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2C76-C2FC-4D55-84F8-FBA78613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449-959E-450F-8203-E2B40361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ACD-A906-4D65-BF82-B896178C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155-B81B-4FE9-83FE-1625C632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31F-73D3-46DD-84F3-084EA5FE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1DD-F2D7-4B57-9AE1-3F8BA88E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430-629D-4752-860C-2B359C7D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643-99A8-4ED6-B074-96F2D163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27F4-114A-4FAE-B981-C0959FFBC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D4C9-E450-4614-A5E4-C2A6108DBF7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3"/>
          <a:stretch/>
        </p:blipFill>
        <p:spPr>
          <a:xfrm>
            <a:off x="8540640" y="0"/>
            <a:ext cx="60336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6" name="Coloredframe"/>
          <p:cNvSpPr/>
          <p:nvPr/>
        </p:nvSpPr>
        <p:spPr>
          <a:xfrm>
            <a:off x="1208160" y="0"/>
            <a:ext cx="353844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7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8491680" y="0"/>
            <a:ext cx="652320" cy="652320"/>
          </a:xfrm>
          <a:prstGeom prst="rect">
            <a:avLst/>
          </a:prstGeom>
          <a:ln w="0">
            <a:noFill/>
          </a:ln>
        </p:spPr>
      </p:pic>
      <p:sp>
        <p:nvSpPr>
          <p:cNvPr id="49" name="Coloredframe"/>
          <p:cNvSpPr/>
          <p:nvPr/>
        </p:nvSpPr>
        <p:spPr>
          <a:xfrm>
            <a:off x="4756320" y="0"/>
            <a:ext cx="3735360" cy="58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4"/>
          <a:srcRect l="0" t="0" r="2625" b="0"/>
          <a:stretch/>
        </p:blipFill>
        <p:spPr>
          <a:xfrm>
            <a:off x="5224320" y="3413160"/>
            <a:ext cx="2211480" cy="113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5"/>
          <a:stretch/>
        </p:blipFill>
        <p:spPr>
          <a:xfrm>
            <a:off x="1582560" y="3252960"/>
            <a:ext cx="1527480" cy="1527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55640" y="84924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6157-857F-4E4D-8CB7-608B61A6115D}" type="datetime">
              <a:rPr b="0" lang="en-US" sz="1400" spc="-1" strike="noStrike">
                <a:solidFill>
                  <a:srgbClr val="4c575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D89E-B569-45D9-9C7F-57F6B7AB13BD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6"/>
          <a:srcRect l="0" t="42946" r="0" b="10737"/>
          <a:stretch/>
        </p:blipFill>
        <p:spPr>
          <a:xfrm>
            <a:off x="0" y="5618160"/>
            <a:ext cx="9144000" cy="12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orldwide.espacenet.com/" TargetMode="External"/><Relationship Id="rId2" Type="http://schemas.openxmlformats.org/officeDocument/2006/relationships/hyperlink" Target="http://worldwide.espacenet.com/" TargetMode="External"/><Relationship Id="rId3" Type="http://schemas.openxmlformats.org/officeDocument/2006/relationships/hyperlink" Target="http://worldwide.espacenet.com/" TargetMode="External"/><Relationship Id="rId4" Type="http://schemas.openxmlformats.org/officeDocument/2006/relationships/hyperlink" Target="http://www.uspto.gov/web/patents/classification/index.htm" TargetMode="External"/><Relationship Id="rId5" Type="http://schemas.openxmlformats.org/officeDocument/2006/relationships/hyperlink" Target="http://www.uspto.gov/web/patents/classification/index.htm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documents.epo.org/projects/babylon/eponot.nsf/0/2F88B7285FC1E3ECC125785500531278/$File/OPS_v3_0_documentation_v1_1_en.pdf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pcinfo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AAA9-1414-4772-AF35-44279A7B343C}" type="slidenum">
              <a:rPr b="0" lang="de-DE" sz="14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91960" y="785880"/>
            <a:ext cx="85838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468360" y="2401920"/>
            <a:ext cx="804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36600" y="1889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575f"/>
                </a:solidFill>
                <a:latin typeface="Arial"/>
              </a:rPr>
              <a:t>Cooperative Patent Classification (CPC)</a:t>
            </a:r>
            <a:endParaRPr b="0" lang="en-US" sz="3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676840" y="4835520"/>
            <a:ext cx="29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IPC CE Meeting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Geneva, 27 February 201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85760" y="485928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Pierre Held,         EPO Directorate Classification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Christopher Kim, USPTO CPC Coordinator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70FE-7383-41E5-9206-38B17CA501B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Training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230480"/>
            <a:ext cx="7678800" cy="47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-Learning modules for USPTO staff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Field-specific training (FST) provided by EPO examiners to their counterparts of the technical field  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xtensive use of CPC Defini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Feedback via the QA proces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xchange visits and e-contacts between specialists in a field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3A03-BFC4-42CF-94CB-C2385BAD44E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0634-127B-4CDB-8421-45BFE8FCE72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360" y="27576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Field Specific Training (FST) Session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1330200" y="828720"/>
            <a:ext cx="6324840" cy="264960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25560">
            <a:solidFill>
              <a:srgbClr val="b4b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0" name="TextBox 21"/>
          <p:cNvSpPr/>
          <p:nvPr/>
        </p:nvSpPr>
        <p:spPr>
          <a:xfrm>
            <a:off x="4842720" y="396252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Create a library of CBTs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2514600" y="1168560"/>
            <a:ext cx="4379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</a:rPr>
              <a:t>USPTO QNs will be trained on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read </a:t>
            </a: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CPC scheme/definition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search</a:t>
            </a: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 in CPC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classify</a:t>
            </a: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 in CPC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monitor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quality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evaluate addition/deletion of symbols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Develop revision projects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82" name="Picture 2" descr="C:\Users\sliu4\AppData\Local\Microsoft\Windows\Temporary Internet Files\Content.IE5\ND5AL5LL\MC900230305[1].wmf"/>
          <p:cNvPicPr/>
          <p:nvPr/>
        </p:nvPicPr>
        <p:blipFill>
          <a:blip r:embed="rId1"/>
          <a:stretch/>
        </p:blipFill>
        <p:spPr>
          <a:xfrm>
            <a:off x="3662280" y="3703680"/>
            <a:ext cx="1003320" cy="885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sliu4\AppData\Local\Microsoft\Windows\Temporary Internet Files\Content.IE5\ND5AL5LL\MC900440402[1].png"/>
          <p:cNvPicPr/>
          <p:nvPr/>
        </p:nvPicPr>
        <p:blipFill>
          <a:blip r:embed="rId2"/>
          <a:stretch/>
        </p:blipFill>
        <p:spPr>
          <a:xfrm>
            <a:off x="2247840" y="2301840"/>
            <a:ext cx="593640" cy="593640"/>
          </a:xfrm>
          <a:prstGeom prst="rect">
            <a:avLst/>
          </a:prstGeom>
          <a:ln w="0">
            <a:noFill/>
          </a:ln>
        </p:spPr>
      </p:pic>
      <p:pic>
        <p:nvPicPr>
          <p:cNvPr id="184" name="Diagram 1023" descr=""/>
          <p:cNvPicPr/>
          <p:nvPr/>
        </p:nvPicPr>
        <p:blipFill>
          <a:blip r:embed="rId3"/>
          <a:stretch/>
        </p:blipFill>
        <p:spPr>
          <a:xfrm>
            <a:off x="1311120" y="4784760"/>
            <a:ext cx="2425680" cy="1635120"/>
          </a:xfrm>
          <a:prstGeom prst="rect">
            <a:avLst/>
          </a:prstGeom>
          <a:ln w="0">
            <a:noFill/>
          </a:ln>
        </p:spPr>
      </p:pic>
      <p:pic>
        <p:nvPicPr>
          <p:cNvPr id="185" name="Diagram 35" descr=""/>
          <p:cNvPicPr/>
          <p:nvPr/>
        </p:nvPicPr>
        <p:blipFill>
          <a:blip r:embed="rId4"/>
          <a:stretch/>
        </p:blipFill>
        <p:spPr>
          <a:xfrm>
            <a:off x="4791240" y="4784760"/>
            <a:ext cx="2384280" cy="16351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024"/>
          <p:cNvSpPr/>
          <p:nvPr/>
        </p:nvSpPr>
        <p:spPr>
          <a:xfrm>
            <a:off x="3815640" y="47242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c575f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7" name="TextBox 37"/>
          <p:cNvSpPr/>
          <p:nvPr/>
        </p:nvSpPr>
        <p:spPr>
          <a:xfrm>
            <a:off x="7397280" y="47242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c575f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17640" y="6505560"/>
            <a:ext cx="49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c30"/>
                </a:solidFill>
                <a:latin typeface="Arial"/>
              </a:rPr>
              <a:t>FST Overview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70C8-514C-477E-8010-D975482BBA7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Demo 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9760" y="1197000"/>
            <a:ext cx="838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2"/>
              </a:rPr>
              <a:t>worldwide.espacenet.com</a:t>
            </a: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3"/>
              </a:rPr>
              <a:t>/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5"/>
              </a:rPr>
              <a:t>www.uspto.gov/web/patents/classification/index.htm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2E03-B174-4B6B-B41E-66DDA8C0F95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993600"/>
            <a:ext cx="4881600" cy="53150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Key features scheme browser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2411280" y="2492280"/>
            <a:ext cx="93672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042920" y="242100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sub-section text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2411280" y="184464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117440" y="191772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Radio buttons: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toggle IPC vs CPC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Show notes &amp; warning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Toggle dot/tree view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195640" y="4437000"/>
            <a:ext cx="93636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826920" y="436572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expand main group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where possible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2371680" y="147636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901800" y="1413000"/>
            <a:ext cx="18698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search functionality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2411280" y="3500280"/>
            <a:ext cx="93672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1042920" y="342900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guidance heading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97B5-DDAF-4CBA-B60F-26F75E01F46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Key features CPC search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5155920" cy="5408640"/>
          </a:xfrm>
          <a:prstGeom prst="rect">
            <a:avLst/>
          </a:prstGeom>
          <a:ln w="0">
            <a:noFill/>
          </a:ln>
        </p:spPr>
      </p:pic>
      <p:sp>
        <p:nvSpPr>
          <p:cNvPr id="208" name="Line 4"/>
          <p:cNvSpPr/>
          <p:nvPr/>
        </p:nvSpPr>
        <p:spPr>
          <a:xfrm>
            <a:off x="1763640" y="234936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25440" y="2309760"/>
            <a:ext cx="18702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statistical result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562400" cy="914400"/>
          </a:xfrm>
          <a:prstGeom prst="rect">
            <a:avLst/>
          </a:prstGeom>
          <a:ln w="0">
            <a:noFill/>
          </a:ln>
        </p:spPr>
      </p:pic>
      <p:sp>
        <p:nvSpPr>
          <p:cNvPr id="211" name="Line 7"/>
          <p:cNvSpPr/>
          <p:nvPr/>
        </p:nvSpPr>
        <p:spPr>
          <a:xfrm>
            <a:off x="1763640" y="354024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50920" y="3500280"/>
            <a:ext cx="18698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ability to expand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result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8028-4B25-4454-9C05-76F219AC59A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Links to Definitions and Scheme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240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cons to open PDF files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efinitions and Schem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4535280" cy="33400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755640" y="4797360"/>
            <a:ext cx="7704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uture version of OPS will have Definitions XML (and concordance list XML).  How these will be used and incorporated into the browser application will be determined in 201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0749-41E7-4B81-A975-347EF3C7A06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Classification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95200" y="1263600"/>
            <a:ext cx="85518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44FA-17C1-46CB-91DB-244632B7BDB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38200" y="1050840"/>
            <a:ext cx="84708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8C09-F171-446F-9EED-E47002318A4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463680" y="1227240"/>
            <a:ext cx="83851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7E0A-5261-462D-9D6B-77E7A2E3491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787400" y="1434960"/>
            <a:ext cx="4857840" cy="2419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399960" y="1082520"/>
            <a:ext cx="834228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1800360" y="3679920"/>
            <a:ext cx="4886280" cy="2819160"/>
          </a:xfrm>
          <a:prstGeom prst="rect">
            <a:avLst/>
          </a:prstGeom>
          <a:ln w="0">
            <a:noFill/>
          </a:ln>
        </p:spPr>
      </p:pic>
      <p:sp>
        <p:nvSpPr>
          <p:cNvPr id="232" name="Oval 1"/>
          <p:cNvSpPr/>
          <p:nvPr/>
        </p:nvSpPr>
        <p:spPr>
          <a:xfrm>
            <a:off x="5418000" y="763560"/>
            <a:ext cx="2019600" cy="1050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C163-BAE8-4F23-99C8-E238E04DE07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8640" y="1055160"/>
            <a:ext cx="80265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schem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defini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project timeline and mileston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Quality assuran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viewer in Espacenet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Allocation Standard, Scheme servic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Revision and Maintenan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14D5-24E4-4B34-A494-4EDCA842102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2440" y="920880"/>
            <a:ext cx="8437680" cy="512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920880" y="5842080"/>
            <a:ext cx="74372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4600" y="439200"/>
            <a:ext cx="83883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CPC allocation standard - based on WIPO ST.8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164360" y="364500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BA7A-83E6-41FC-9102-8BF76EA08412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2360" y="3860640"/>
            <a:ext cx="503280" cy="0"/>
          </a:xfrm>
          <a:prstGeom prst="line">
            <a:avLst/>
          </a:prstGeom>
          <a:ln w="93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148428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05640" y="150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4360" y="544500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486900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5084640"/>
            <a:ext cx="289080" cy="0"/>
          </a:xfrm>
          <a:prstGeom prst="line">
            <a:avLst/>
          </a:prstGeom>
          <a:ln w="93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87080" y="61135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Version 1.0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23600" y="554040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c575f"/>
                </a:solidFill>
                <a:latin typeface="Arial"/>
              </a:rPr>
              <a:t>only for CPCNO</a:t>
            </a:r>
            <a:endParaRPr b="0" lang="en-US" sz="10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70440" y="5630760"/>
            <a:ext cx="1144440" cy="0"/>
          </a:xfrm>
          <a:prstGeom prst="line">
            <a:avLst/>
          </a:prstGeom>
          <a:ln w="93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43840" y="42116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0600" y="4487760"/>
            <a:ext cx="166680" cy="0"/>
          </a:xfrm>
          <a:prstGeom prst="line">
            <a:avLst/>
          </a:prstGeom>
          <a:ln w="93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33680" y="4349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CPC Allocation standard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556D-2F70-4EBB-8DDA-49AB54B37231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6960" y="614520"/>
            <a:ext cx="817884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b56"/>
                </a:solidFill>
                <a:latin typeface="Arial"/>
              </a:rPr>
              <a:t>CPC Scheme Services as </a:t>
            </a:r>
            <a:br>
              <a:rPr sz="3200"/>
            </a:br>
            <a:r>
              <a:rPr b="1" lang="en-GB" sz="3200" spc="-1" strike="noStrike">
                <a:solidFill>
                  <a:srgbClr val="404b56"/>
                </a:solidFill>
                <a:latin typeface="Arial"/>
              </a:rPr>
              <a:t>EPO’s OPS Service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6360" y="1428480"/>
            <a:ext cx="8213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1.  CPC Validation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2. Classification Mapping servic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CLA to CPC concordance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CPC to ECLA concordance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CPC to IPC concordance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68A4-6A2A-4B20-A99A-2B1A518915D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1. CPC validation service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67880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The classification validation service checks the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xistence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and ECLA classifications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The service will accept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nly 'full' classification symbols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, starting from main group, e.g. A01B1/00.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esponse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for a requested symbol is indicated by standard HTTP response cod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If the symbol is valid, a standard HTTP 200 OK response is returned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In the case the symbol is not being found in the scheme, a standard HTTP 404 Not Found error response is returned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n the case of the symbol format being invalid, a standard HTTP 400 Bad Request error response is returned.  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n the case of any other system error, a standard HTTP 500 System Error response is returned.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4FE6-777B-4ED2-B7AA-8A0DD94BA48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68996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2. Classification mapping service</a:t>
            </a:r>
            <a:br>
              <a:rPr sz="2800"/>
            </a:b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781704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classification mapping service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provides access to internal classification conversion routine for external users.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The following directions of conversions are supported by OPS :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ECLA &gt; CPC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PC &gt; ECLA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PC Add only &gt; ICO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PC &gt; IPC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he service accepts only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'full' classification symbols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, starting from main group level, e.g. A01B1/00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he CPC&gt;ECLA transformation ambiguous, therefore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ptional request parameter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_?additional_ to specify that additional classification symbol is requested. The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default request is </a:t>
            </a:r>
            <a:r>
              <a:rPr b="1" i="1" lang="en-GB" sz="1800" spc="-1" strike="noStrike">
                <a:solidFill>
                  <a:srgbClr val="404b56"/>
                </a:solidFill>
                <a:latin typeface="Arial"/>
              </a:rPr>
              <a:t>invention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7DE4-8091-4884-B9F8-C263D9DD5F5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ECLA-CPC Response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2296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69" name="Rectangle 5" descr=""/>
          <p:cNvPicPr/>
          <p:nvPr/>
        </p:nvPicPr>
        <p:blipFill>
          <a:blip r:embed="rId1"/>
          <a:stretch/>
        </p:blipFill>
        <p:spPr>
          <a:xfrm>
            <a:off x="512640" y="500040"/>
            <a:ext cx="7872480" cy="558180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rId2"/>
          </p:cNvPr>
          <p:cNvSpPr/>
          <p:nvPr/>
        </p:nvSpPr>
        <p:spPr>
          <a:xfrm>
            <a:off x="3079440" y="614376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PS RESTful documentation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B76F-23A6-4298-9305-80B90CD0DB2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793520"/>
            <a:ext cx="781848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b56"/>
                </a:solidFill>
                <a:latin typeface="Arial"/>
              </a:rPr>
              <a:t>CPC </a:t>
            </a:r>
            <a:br>
              <a:rPr sz="4000"/>
            </a:br>
            <a:r>
              <a:rPr b="1" lang="en-US" sz="4000" spc="-1" strike="noStrike">
                <a:solidFill>
                  <a:srgbClr val="404b56"/>
                </a:solidFill>
                <a:latin typeface="Arial"/>
              </a:rPr>
              <a:t>Revision and Maintenance</a:t>
            </a:r>
            <a:br>
              <a:rPr sz="4000"/>
            </a:br>
            <a:r>
              <a:rPr b="1" lang="en-US" sz="4000" spc="-1" strike="noStrike">
                <a:solidFill>
                  <a:srgbClr val="404b56"/>
                </a:solidFill>
                <a:latin typeface="Arial"/>
              </a:rPr>
              <a:t>process</a:t>
            </a:r>
            <a:endParaRPr b="1" lang="en-US" sz="4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mending the CPC scheme and/or definition,</a:t>
            </a:r>
            <a:br>
              <a:rPr sz="2000"/>
            </a:b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nd reclassifying the corresponding documentation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09CB-EA70-414D-81BD-FDD354B5CAA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DA8F-A506-4700-AE11-8C8CBA549A9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From 1 January 2013 onwards CPC 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jointly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administered by the EPO and USPTO</a:t>
            </a: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=&gt;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Joint decisions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to amend the CPC 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scheme and definitions </a:t>
            </a: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Changes through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 maintenance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revision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D0F2-BD02-4CA9-9F5B-DFB4677B42D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386080" y="714240"/>
            <a:ext cx="289728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04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08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12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24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28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32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c575f"/>
                </a:solidFill>
                <a:latin typeface="Arial"/>
              </a:rPr>
              <a:t>--------------------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575f"/>
                </a:solidFill>
                <a:latin typeface="Arial"/>
              </a:rPr>
              <a:t>H01L</a:t>
            </a:r>
            <a:r>
              <a:rPr b="0" lang="pt-BR" sz="1400" spc="-1" strike="noStrike" u="sng">
                <a:solidFill>
                  <a:srgbClr val="c0362b"/>
                </a:solidFill>
                <a:uFillTx/>
                <a:latin typeface="Arial"/>
              </a:rPr>
              <a:t>20</a:t>
            </a:r>
            <a:r>
              <a:rPr b="0" lang="pt-BR" sz="1400" spc="-1" strike="noStrike">
                <a:solidFill>
                  <a:srgbClr val="4c575f"/>
                </a:solidFill>
                <a:latin typeface="Arial"/>
              </a:rPr>
              <a:t>21/28528     </a:t>
            </a:r>
            <a:r>
              <a:rPr b="0" lang="pt-BR" sz="1800" spc="-1" strike="noStrike">
                <a:solidFill>
                  <a:srgbClr val="4c575f"/>
                </a:solidFill>
                <a:latin typeface="Arial"/>
              </a:rPr>
              <a:t>. . . .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</a:t>
            </a:r>
            <a:r>
              <a:rPr b="1" lang="pt-BR" sz="1400" spc="-1" strike="noStrike" u="sng">
                <a:solidFill>
                  <a:srgbClr val="c0362b"/>
                </a:solidFill>
                <a:uFillTx/>
                <a:latin typeface="Arial"/>
              </a:rPr>
              <a:t>20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1/285285</a:t>
            </a:r>
            <a:r>
              <a:rPr b="1" lang="pt-BR" sz="1400" spc="-1" strike="noStrike">
                <a:solidFill>
                  <a:srgbClr val="4c575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. . . .</a:t>
            </a:r>
            <a:r>
              <a:rPr b="1" lang="pt-BR" sz="1800" spc="-1" strike="noStrike">
                <a:solidFill>
                  <a:srgbClr val="4c57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c575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01L2925/065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 . . .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01L2925/06504    . . . .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01L2925/06508    . . . . .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97280" y="907920"/>
            <a:ext cx="301680" cy="2982960"/>
          </a:xfrm>
          <a:custGeom>
            <a:avLst/>
            <a:gdLst>
              <a:gd name="textAreaLeft" fmla="*/ 0 w 301680"/>
              <a:gd name="textAreaRight" fmla="*/ 108720 w 301680"/>
              <a:gd name="textAreaTop" fmla="*/ 77760 h 2982960"/>
              <a:gd name="textAreaBottom" fmla="*/ 2905200 h 298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4714920" y="5388120"/>
            <a:ext cx="288720" cy="968400"/>
          </a:xfrm>
          <a:custGeom>
            <a:avLst/>
            <a:gdLst>
              <a:gd name="textAreaLeft" fmla="*/ 0 w 288720"/>
              <a:gd name="textAreaRight" fmla="*/ 104040 w 288720"/>
              <a:gd name="textAreaTop" fmla="*/ 25200 h 968400"/>
              <a:gd name="textAreaBottom" fmla="*/ 943200 h 96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97600" y="1317600"/>
            <a:ext cx="3738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rigin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PC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CLA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"mirrored" ICO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08680" y="5168880"/>
            <a:ext cx="3813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"orthogonal" ICO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flipH="1" flipV="1">
            <a:off x="2091240" y="1083600"/>
            <a:ext cx="358920" cy="2903400"/>
          </a:xfrm>
          <a:custGeom>
            <a:avLst/>
            <a:gdLst>
              <a:gd name="textAreaLeft" fmla="*/ -360 w 358920"/>
              <a:gd name="textAreaRight" fmla="*/ 129240 w 358920"/>
              <a:gd name="textAreaTop" fmla="*/ 75600 h 2903400"/>
              <a:gd name="textAreaBottom" fmla="*/ 2827800 h 29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 flipH="1">
            <a:off x="2133720" y="4210200"/>
            <a:ext cx="333360" cy="2111400"/>
          </a:xfrm>
          <a:custGeom>
            <a:avLst/>
            <a:gdLst>
              <a:gd name="textAreaLeft" fmla="*/ 0 w 333360"/>
              <a:gd name="textAreaRight" fmla="*/ 120240 w 333360"/>
              <a:gd name="textAreaTop" fmla="*/ 54720 h 2111400"/>
              <a:gd name="textAreaBottom" fmla="*/ 205668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54080" y="2239920"/>
            <a:ext cx="1972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INV/ADD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79600" y="4908600"/>
            <a:ext cx="133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ADD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388360" y="664056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C2E8-6697-444B-B685-3BEBAC1C13B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013360" y="4389480"/>
            <a:ext cx="38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"further breakdown" ICO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734000" y="4227480"/>
            <a:ext cx="288720" cy="804960"/>
          </a:xfrm>
          <a:custGeom>
            <a:avLst/>
            <a:gdLst>
              <a:gd name="textAreaLeft" fmla="*/ 0 w 288720"/>
              <a:gd name="textAreaRight" fmla="*/ 104040 w 288720"/>
              <a:gd name="textAreaTop" fmla="*/ 20880 h 804960"/>
              <a:gd name="textAreaBottom" fmla="*/ 784080 h 8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75920" y="31021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Main trunk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16240" y="57261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2000-series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361800" y="322200"/>
            <a:ext cx="768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scheme ─ sections A-H</a:t>
            </a: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366B-3F23-4E99-8C50-4C61BB52229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Share reclassification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resources when projects enter reclassification phase: 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50%-50% overall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in some projects flexibility to divide the work on a different shar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Monthly updates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possible for CPC scheme and defini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Support 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will be provided: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Revision Concordance List (RCL)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Publication of changes 2 months before they enter into for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C42A-08CF-4F87-9839-5CF98A5A9672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6d90a6"/>
                </a:solidFill>
                <a:uFillTx/>
                <a:latin typeface="Arial"/>
                <a:hlinkClick r:id="rId1"/>
              </a:rPr>
              <a:t>www.cpcinfo.org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b56"/>
                </a:solidFill>
                <a:latin typeface="Arial"/>
              </a:rPr>
              <a:t>cpc@epo.org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b56"/>
                </a:solidFill>
                <a:latin typeface="Arial"/>
              </a:rPr>
              <a:t>cpc@uspto.gov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1520" y="4726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scheme </a:t>
            </a:r>
            <a:r>
              <a:rPr b="1" lang="en-US" sz="3200" spc="-1" strike="noStrike">
                <a:solidFill>
                  <a:srgbClr val="404b56"/>
                </a:solidFill>
                <a:latin typeface="Arial"/>
                <a:ea typeface="Arial"/>
              </a:rPr>
              <a:t>─ </a:t>
            </a: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Y section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8388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General tagging of new technological developments; general tagging of 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cross-cutting technologies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 spanning over several sections of the IPC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Y02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: Climate change mitigation technologies (CCMTs)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Y04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: Smart grid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Technical subjects covered by former USPC </a:t>
            </a:r>
            <a:br>
              <a:rPr sz="2400"/>
            </a:b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ross-reference art collections [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XRACs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] and 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Digest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Y10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6033-3683-4696-8889-9862A25CD47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scheme layout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77720" y="1135080"/>
          <a:ext cx="8355240" cy="5238720"/>
        </p:xfrm>
        <a:graphic>
          <a:graphicData uri="http://schemas.openxmlformats.org/drawingml/2006/table">
            <a:tbl>
              <a:tblPr/>
              <a:tblGrid>
                <a:gridCol w="6411960"/>
                <a:gridCol w="1943280"/>
              </a:tblGrid>
              <a:tr h="86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s A─H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 Y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20428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ain trunk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160 000 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ymbols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vention or additional information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{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...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}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used to distinguish CPC text from IPC one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99ff9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7 300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cludes former USPC XRACs and digests 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7404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dexing codes ─ 2000 series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82 000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 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former "breakdown" and "orthogonal" ICO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indexing codes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52C2-5652-479F-A964-743DD78CBE4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Definition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2440" y="1041120"/>
            <a:ext cx="808020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he CPC scheme will be supported by a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set of instructions (in complement to the scheme)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 on how to search and classify in each specific technical area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hey have been designed along the lines of the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IPC Definitions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Since 1 October 2012, CPC Definitions are being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published on a monthly basis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 as they get bilaterally agreed and will finally cover: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ll subclasses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ll main groups, and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some subgroups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o date we count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164 published CPC definitions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221 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his Friday 1 March 2013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75F2-9481-46B2-B073-A372AC9E8FB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1DE9-4F46-4EB4-9E47-75EB63CBABD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13120" y="435780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Jan 2011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133200" y="4954680"/>
            <a:ext cx="1506600" cy="1141560"/>
            <a:chOff x="133200" y="4954680"/>
            <a:chExt cx="1506600" cy="1141560"/>
          </a:xfrm>
        </p:grpSpPr>
        <p:sp>
          <p:nvSpPr>
            <p:cNvPr id="138" name="Line 6"/>
            <p:cNvSpPr/>
            <p:nvPr/>
          </p:nvSpPr>
          <p:spPr>
            <a:xfrm flipV="1">
              <a:off x="462600" y="4954680"/>
              <a:ext cx="0" cy="248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133200" y="5243400"/>
              <a:ext cx="1506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tart of project discussions between EPO and USPTO</a:t>
              </a:r>
              <a:endParaRPr b="0" lang="en-US" sz="14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140" name="Rectangle 11"/>
          <p:cNvSpPr/>
          <p:nvPr/>
        </p:nvSpPr>
        <p:spPr>
          <a:xfrm>
            <a:off x="5839560" y="4335480"/>
            <a:ext cx="10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MS PGothic"/>
              </a:rPr>
              <a:t>1 Jan 201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289680" y="435780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Jan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17680" y="4653000"/>
            <a:ext cx="0" cy="20304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498840" y="4653000"/>
            <a:ext cx="0" cy="20304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6299280" y="4654080"/>
            <a:ext cx="0" cy="203400"/>
          </a:xfrm>
          <a:prstGeom prst="line">
            <a:avLst/>
          </a:prstGeom>
          <a:ln w="381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90520" y="4776840"/>
            <a:ext cx="8475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 rot="5400000">
            <a:off x="1851840" y="2600640"/>
            <a:ext cx="216000" cy="28656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4520 h 2865600"/>
              <a:gd name="textAreaBottom" fmla="*/ 2791080 h 286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7"/>
                </a:lnTo>
                <a:cubicBezTo>
                  <a:pt x="10800" y="10407"/>
                  <a:pt x="5400" y="11307"/>
                  <a:pt x="0" y="11307"/>
                </a:cubicBezTo>
                <a:cubicBezTo>
                  <a:pt x="5400" y="11307"/>
                  <a:pt x="10800" y="12207"/>
                  <a:pt x="10800" y="131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85920" y="1398600"/>
            <a:ext cx="287964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evelop training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ocument classification practices (CPC Definitions)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ECLA housekeeping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esign IT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esign collaborative environment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8" name="AutoShape 19"/>
          <p:cNvSpPr/>
          <p:nvPr/>
        </p:nvSpPr>
        <p:spPr>
          <a:xfrm rot="5400000">
            <a:off x="7423560" y="2902320"/>
            <a:ext cx="228600" cy="2274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7"/>
                </a:lnTo>
                <a:cubicBezTo>
                  <a:pt x="10800" y="10407"/>
                  <a:pt x="5400" y="11307"/>
                  <a:pt x="0" y="11307"/>
                </a:cubicBezTo>
                <a:cubicBezTo>
                  <a:pt x="5400" y="11307"/>
                  <a:pt x="10800" y="12207"/>
                  <a:pt x="10800" y="131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 flipV="1">
            <a:off x="6305400" y="4933800"/>
            <a:ext cx="5040" cy="540000"/>
          </a:xfrm>
          <a:prstGeom prst="line">
            <a:avLst/>
          </a:prstGeom>
          <a:ln w="9360">
            <a:solidFill>
              <a:srgbClr val="c0362b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716440" y="5513400"/>
            <a:ext cx="138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MS PGothic"/>
              </a:rPr>
              <a:t>CPC Launch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1" name="AutoShape 17"/>
          <p:cNvSpPr/>
          <p:nvPr/>
        </p:nvSpPr>
        <p:spPr>
          <a:xfrm rot="5400000">
            <a:off x="4786200" y="2712960"/>
            <a:ext cx="219240" cy="2635200"/>
          </a:xfrm>
          <a:custGeom>
            <a:avLst/>
            <a:gdLst>
              <a:gd name="textAreaLeft" fmla="*/ 140040 w 219240"/>
              <a:gd name="textAreaRight" fmla="*/ 219600 w 219240"/>
              <a:gd name="textAreaTop" fmla="*/ 68400 h 2635200"/>
              <a:gd name="textAreaBottom" fmla="*/ 2566800 h 26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7"/>
                </a:lnTo>
                <a:cubicBezTo>
                  <a:pt x="10800" y="10407"/>
                  <a:pt x="5400" y="11307"/>
                  <a:pt x="0" y="11307"/>
                </a:cubicBezTo>
                <a:cubicBezTo>
                  <a:pt x="5400" y="11307"/>
                  <a:pt x="10800" y="12207"/>
                  <a:pt x="10800" y="131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3160800" y="1379520"/>
            <a:ext cx="33973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IT implementation at USPTO and EPO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Collaborative environment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c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CPC Scheme launch version publicly available on 1 Oct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OCDB back-file converted to CPC on 15 Nov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CPC in Espacenet - December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Prepare for launch of CPC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27640" y="4950000"/>
            <a:ext cx="1319040" cy="1136880"/>
            <a:chOff x="4427640" y="4950000"/>
            <a:chExt cx="1319040" cy="1136880"/>
          </a:xfrm>
        </p:grpSpPr>
        <p:sp>
          <p:nvSpPr>
            <p:cNvPr id="154" name="Line 23"/>
            <p:cNvSpPr/>
            <p:nvPr/>
          </p:nvSpPr>
          <p:spPr>
            <a:xfrm flipV="1">
              <a:off x="5089680" y="4950000"/>
              <a:ext cx="1440" cy="249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155" name="Rectangle 24"/>
            <p:cNvSpPr/>
            <p:nvPr/>
          </p:nvSpPr>
          <p:spPr>
            <a:xfrm>
              <a:off x="4427640" y="5234040"/>
              <a:ext cx="13190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575f"/>
                  </a:solidFill>
                  <a:latin typeface="Arial"/>
                  <a:ea typeface="MS PGothic"/>
                </a:rPr>
                <a:t>CPC launch version available</a:t>
              </a:r>
              <a:endParaRPr b="0" lang="en-US" sz="1400" spc="-1" strike="noStrike">
                <a:solidFill>
                  <a:srgbClr val="4c57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575f"/>
                  </a:solidFill>
                  <a:latin typeface="Arial"/>
                  <a:ea typeface="MS PGothic"/>
                </a:rPr>
                <a:t>1 Oct 2012</a:t>
              </a:r>
              <a:endParaRPr b="0" lang="en-US" sz="14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156" name="Rectangle 2"/>
          <p:cNvSpPr/>
          <p:nvPr/>
        </p:nvSpPr>
        <p:spPr>
          <a:xfrm>
            <a:off x="566640" y="603360"/>
            <a:ext cx="7332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575f"/>
                </a:solidFill>
                <a:latin typeface="Arial"/>
              </a:rPr>
              <a:t>CPC timeline</a:t>
            </a: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543720" y="892080"/>
            <a:ext cx="247500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CPC used by EPO and USPTO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Epoque (Net) and USPat and USApp CPC-ready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Quality Assurance process in place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Harmonize classific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actices</a:t>
            </a: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Joint CPC revisions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d0e"/>
                </a:solidFill>
                <a:latin typeface="Arial"/>
              </a:rPr>
              <a:t>CPC available for use by other IP offices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9F46-0336-4120-9E67-1300067FEB4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652520" y="4343400"/>
            <a:ext cx="81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1 Apr 2013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V="1">
            <a:off x="8005680" y="4662000"/>
            <a:ext cx="0" cy="20340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 flipV="1">
            <a:off x="8011800" y="4965480"/>
            <a:ext cx="4680" cy="49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7275600" y="5500800"/>
            <a:ext cx="1728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No more ECLA-to-CPC mapping in revised areas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702320" y="4343400"/>
            <a:ext cx="79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1 Oct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V="1">
            <a:off x="5091120" y="4662000"/>
            <a:ext cx="0" cy="20340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101E-0683-4F2D-9383-F4F61B26182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77320" cy="4162680"/>
          </a:xfrm>
          <a:prstGeom prst="rect">
            <a:avLst/>
          </a:prstGeom>
          <a:ln w="0">
            <a:noFill/>
          </a:ln>
        </p:spPr>
      </p:pic>
      <p:sp>
        <p:nvSpPr>
          <p:cNvPr id="167" name="Title 1"/>
          <p:cNvSpPr/>
          <p:nvPr/>
        </p:nvSpPr>
        <p:spPr>
          <a:xfrm>
            <a:off x="703440" y="304920"/>
            <a:ext cx="7689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- USPTO Implementation Timeline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7640" y="6505560"/>
            <a:ext cx="49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c30"/>
                </a:solidFill>
                <a:latin typeface="Arial"/>
              </a:rPr>
              <a:t>Implementation Timelin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4C7E-6DBF-4A42-9B86-42CB329912C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C4B0-D6B9-4AF6-9558-1CF42556E12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Quality Assurance (QA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55640" y="1127160"/>
            <a:ext cx="81374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Feedback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by Class-QNs through QA: sampling of documents and provision of written feedback 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Possibility of 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on-the-fly written feedback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by all classifiers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reation of 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statistical reports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per technical area by analysing the difference in symbols allocated by the two offices to the same families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6:48:09Z</dcterms:created>
  <dc:creator>Pierre Held (EPO) and Christopher Kim (USPTO)</dc:creator>
  <dc:description/>
  <cp:keywords>IPC</cp:keywords>
  <dc:language>en-US</dc:language>
  <cp:lastModifiedBy>Malanga</cp:lastModifiedBy>
  <dcterms:modified xsi:type="dcterms:W3CDTF">2013-03-04T09:34:37Z</dcterms:modified>
  <cp:revision>944</cp:revision>
  <dc:subject>IPC/CE/45 - Presentation on the Cooperative Patent Classification (CPC)</dc:subject>
  <dc:title>IPC/CE/45 - Presentation on the Cooperative Patent Classification (CPC)</dc:title>
</cp:coreProperties>
</file>